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2720" y="3959280"/>
            <a:ext cx="691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2720" y="395928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5840" y="395928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200" y="180972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47680" y="180972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2720" y="395928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200" y="395928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47680" y="395928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81000" y="1020240"/>
            <a:ext cx="6943680" cy="19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2720" y="395928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15840" y="395928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2720" y="3959280"/>
            <a:ext cx="691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2720" y="3959280"/>
            <a:ext cx="691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2720" y="395928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15840" y="395928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0200" y="180972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47680" y="180972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2720" y="395928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0200" y="395928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47680" y="3959280"/>
            <a:ext cx="222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1000" y="1020240"/>
            <a:ext cx="6943680" cy="19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2720" y="395928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5840" y="395928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5840" y="1809720"/>
            <a:ext cx="337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2720" y="3959280"/>
            <a:ext cx="691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87400" indent="-2221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22480" indent="-2095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22480" indent="-2095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22480" indent="-2095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094240" y="6154200"/>
            <a:ext cx="5922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Bae_logo" descr=""/>
          <p:cNvPicPr/>
          <p:nvPr/>
        </p:nvPicPr>
        <p:blipFill>
          <a:blip r:embed="rId2"/>
          <a:stretch/>
        </p:blipFill>
        <p:spPr>
          <a:xfrm>
            <a:off x="7161120" y="541440"/>
            <a:ext cx="1440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480" y="3121200"/>
            <a:ext cx="5268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Bae_logo" descr=""/>
          <p:cNvPicPr/>
          <p:nvPr/>
        </p:nvPicPr>
        <p:blipFill>
          <a:blip r:embed="rId2"/>
          <a:stretch/>
        </p:blipFill>
        <p:spPr>
          <a:xfrm>
            <a:off x="6624720" y="541440"/>
            <a:ext cx="1976400" cy="30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51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4302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66528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9129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91296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91296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3121200"/>
            <a:ext cx="5268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hods and Metrics for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alysis of Sensemak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895480" y="3981600"/>
            <a:ext cx="5268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r Karen Carr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amp;  Mr Barry McGuin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ts val="1998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BAE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ts val="598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dvanced Technology Cent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SOWERBY" descr=""/>
          <p:cNvPicPr/>
          <p:nvPr/>
        </p:nvPicPr>
        <p:blipFill>
          <a:blip r:embed="rId1"/>
          <a:stretch/>
        </p:blipFill>
        <p:spPr>
          <a:xfrm>
            <a:off x="609480" y="4013280"/>
            <a:ext cx="38782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97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38600" indent="0">
              <a:lnSpc>
                <a:spcPts val="2500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8600" indent="0">
              <a:lnSpc>
                <a:spcPts val="2500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capacity for “actio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8600" indent="0">
              <a:lnSpc>
                <a:spcPts val="2500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tuational Awaren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8600" indent="0">
              <a:lnSpc>
                <a:spcPts val="2500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dynamic “situated” knowledge, i.e. capacity to act effectively here &amp; now in a given specific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8600" indent="0">
              <a:lnSpc>
                <a:spcPts val="2500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ensemak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8600" indent="0">
              <a:lnSpc>
                <a:spcPts val="2500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rocess of creating effective SA in situations of uncertain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lot4" descr=""/>
          <p:cNvPicPr/>
          <p:nvPr/>
        </p:nvPicPr>
        <p:blipFill>
          <a:blip r:embed="rId1"/>
          <a:srcRect l="0" t="0" r="0" b="4847"/>
          <a:stretch/>
        </p:blipFill>
        <p:spPr>
          <a:xfrm>
            <a:off x="5334120" y="1752480"/>
            <a:ext cx="3276360" cy="2494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100840" y="4402800"/>
            <a:ext cx="365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Knowing what’s going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so you can figure out what to do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0600" y="2056320"/>
            <a:ext cx="104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do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say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 Narrow"/>
              </a:rPr>
              <a:t>thin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52680" y="228564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67080" y="25621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2590920"/>
            <a:ext cx="5335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tuational awaren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733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mental representation of the current and future state of one’s domain of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lnSpc>
                <a:spcPct val="14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awarenes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entit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ev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rocess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tio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others’ perceptions &amp; inten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ofar as these are relevant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erforming an action, 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hoosing a course of 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228600" cy="198144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34340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ough a continuous process of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ituation assess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1"/>
            <a:endCxn id="143" idx="0"/>
          </p:cNvCxnSpPr>
          <p:nvPr/>
        </p:nvCxnSpPr>
        <p:spPr>
          <a:xfrm>
            <a:off x="4952520" y="3657240"/>
            <a:ext cx="1753560" cy="686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tuational awaren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3080" y="1809720"/>
            <a:ext cx="740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 is based o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or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HEMAS: generalized patterns representing typical situ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perience, training, cul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n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 perception of the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ception of instruments and display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d communica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292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191120"/>
            <a:ext cx="121932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48160" y="5433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9960" y="37339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0"/>
            <a:endCxn id="147" idx="2"/>
          </p:cNvCxnSpPr>
          <p:nvPr/>
        </p:nvCxnSpPr>
        <p:spPr>
          <a:xfrm flipH="1" flipV="1" rot="5400000">
            <a:off x="4466880" y="4642920"/>
            <a:ext cx="786240" cy="79596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2"/>
            <a:endCxn id="147" idx="6"/>
          </p:cNvCxnSpPr>
          <p:nvPr/>
        </p:nvCxnSpPr>
        <p:spPr>
          <a:xfrm rot="5400000">
            <a:off x="6511680" y="4064760"/>
            <a:ext cx="548640" cy="61956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8120" y="5334120"/>
            <a:ext cx="502920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2240" y="629280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YSICAL DO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3" idx="0"/>
            <a:endCxn id="148" idx="2"/>
          </p:cNvCxnSpPr>
          <p:nvPr/>
        </p:nvCxnSpPr>
        <p:spPr>
          <a:xfrm flipV="1">
            <a:off x="4458960" y="5799960"/>
            <a:ext cx="3960" cy="492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98600" y="594360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60400" y="59436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809880" y="571464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80024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867280"/>
            <a:ext cx="518148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entral role of 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3481560"/>
            <a:ext cx="1523880" cy="1547640"/>
          </a:xfrm>
          <a:prstGeom prst="ellipse">
            <a:avLst/>
          </a:prstGeom>
          <a:solidFill>
            <a:srgbClr val="6600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8280" y="2895480"/>
            <a:ext cx="1244520" cy="70380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ecision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a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8120" y="5257800"/>
            <a:ext cx="1181880" cy="520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1120" y="600408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YSICAL DOM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822960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3320" y="5257800"/>
            <a:ext cx="1073880" cy="520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895480"/>
            <a:ext cx="1143000" cy="100872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ense-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a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7040" y="1636560"/>
            <a:ext cx="4005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 both informs and is informed b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se-ma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ision-ma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1" idx="7"/>
            <a:endCxn id="162" idx="1"/>
          </p:cNvCxnSpPr>
          <p:nvPr/>
        </p:nvCxnSpPr>
        <p:spPr>
          <a:xfrm flipH="1" flipV="1" rot="5400000">
            <a:off x="5264280" y="3024360"/>
            <a:ext cx="434160" cy="896040"/>
          </a:xfrm>
          <a:prstGeom prst="bentConnector2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6" idx="1"/>
            <a:endCxn id="167" idx="1"/>
          </p:cNvCxnSpPr>
          <p:nvPr/>
        </p:nvCxnSpPr>
        <p:spPr>
          <a:xfrm flipH="1" rot="10800000">
            <a:off x="1904040" y="3255840"/>
            <a:ext cx="67320" cy="2261160"/>
          </a:xfrm>
          <a:prstGeom prst="bentConnector3">
            <a:avLst>
              <a:gd name="adj1" fmla="val -904301"/>
            </a:avLst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2" idx="3"/>
            <a:endCxn id="163" idx="3"/>
          </p:cNvCxnSpPr>
          <p:nvPr/>
        </p:nvCxnSpPr>
        <p:spPr>
          <a:xfrm flipH="1">
            <a:off x="7197120" y="3255840"/>
            <a:ext cx="14760" cy="2261160"/>
          </a:xfrm>
          <a:prstGeom prst="bentConnector3">
            <a:avLst>
              <a:gd name="adj1" fmla="val -4265000"/>
            </a:avLst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stCxn id="164" idx="1"/>
            <a:endCxn id="166" idx="2"/>
          </p:cNvCxnSpPr>
          <p:nvPr/>
        </p:nvCxnSpPr>
        <p:spPr>
          <a:xfrm rot="10800000">
            <a:off x="2439360" y="5774760"/>
            <a:ext cx="761040" cy="4276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3" idx="2"/>
            <a:endCxn id="164" idx="3"/>
          </p:cNvCxnSpPr>
          <p:nvPr/>
        </p:nvCxnSpPr>
        <p:spPr>
          <a:xfrm rot="5400000">
            <a:off x="5997600" y="5591880"/>
            <a:ext cx="427680" cy="7945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3282480" y="489096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GNITIVE DOMA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66" idx="0"/>
            <a:endCxn id="161" idx="2"/>
          </p:cNvCxnSpPr>
          <p:nvPr/>
        </p:nvCxnSpPr>
        <p:spPr>
          <a:xfrm flipH="1" flipV="1" rot="5400000">
            <a:off x="2576160" y="4118760"/>
            <a:ext cx="1002600" cy="1275480"/>
          </a:xfrm>
          <a:prstGeom prst="bentConnector2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1" idx="6"/>
            <a:endCxn id="163" idx="0"/>
          </p:cNvCxnSpPr>
          <p:nvPr/>
        </p:nvCxnSpPr>
        <p:spPr>
          <a:xfrm>
            <a:off x="5276880" y="4255560"/>
            <a:ext cx="1332720" cy="1002600"/>
          </a:xfrm>
          <a:prstGeom prst="bentConnector2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7" idx="3"/>
            <a:endCxn id="161" idx="1"/>
          </p:cNvCxnSpPr>
          <p:nvPr/>
        </p:nvCxnSpPr>
        <p:spPr>
          <a:xfrm>
            <a:off x="3133800" y="3255840"/>
            <a:ext cx="824400" cy="434160"/>
          </a:xfrm>
          <a:prstGeom prst="bentConnector2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362320" y="1600200"/>
            <a:ext cx="5562360" cy="4724280"/>
          </a:xfrm>
          <a:prstGeom prst="ellipse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side SA:  Cutting up the cak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981080"/>
            <a:ext cx="4647960" cy="40388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9625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17524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1080" y="4267080"/>
            <a:ext cx="2103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oncr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situation-specif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2800" y="2666880"/>
            <a:ext cx="2395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generalized patter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3400" y="14479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58480" y="14479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mpl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63520" y="4267080"/>
            <a:ext cx="20124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pecific proposi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.g., “rate of fuel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ss is high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01720" y="4267080"/>
            <a:ext cx="2009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n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elected act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fforded by sit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.g., “Contact A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inform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1400" y="2178000"/>
            <a:ext cx="19666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ituational sch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.g., “Fuel leak?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ulty sensor?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1600" y="2178000"/>
            <a:ext cx="18892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ental simul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.g., “Risk of 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aching destination”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962520" y="3809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388620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876920" y="3733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52520" y="5029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876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52520" y="3048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095880" y="3809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952520" y="38854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952520" y="37339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cesses involved in 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25640" indent="0">
              <a:lnSpc>
                <a:spcPts val="2599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ERCEPTION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Acquisition of information about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the given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5640" indent="0">
              <a:lnSpc>
                <a:spcPts val="2599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REHENSION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Diagnostic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interpretation of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the given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5640" indent="0">
              <a:lnSpc>
                <a:spcPts val="2599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ROJECTION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Prognostic simulation of future situations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and their possible 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5640" indent="0">
              <a:lnSpc>
                <a:spcPts val="2599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ESOLUTION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Selection of actions to direct the given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situation towards the desired out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5640" indent="0">
              <a:lnSpc>
                <a:spcPts val="2599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5640" indent="0">
              <a:lnSpc>
                <a:spcPts val="2599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serving to support dynamically effectiv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209680"/>
            <a:ext cx="1981440" cy="304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124080"/>
            <a:ext cx="1981440" cy="304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952880"/>
            <a:ext cx="1981080" cy="304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n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4038480"/>
            <a:ext cx="1981440" cy="304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j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1828800"/>
            <a:ext cx="3657600" cy="28195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emaking and 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3278160"/>
            <a:ext cx="1523880" cy="1191240"/>
          </a:xfrm>
          <a:prstGeom prst="rect">
            <a:avLst/>
          </a:prstGeom>
          <a:solidFill>
            <a:srgbClr val="6600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35760" y="368856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2001960"/>
            <a:ext cx="1600200" cy="1191240"/>
          </a:xfrm>
          <a:prstGeom prst="rect">
            <a:avLst/>
          </a:prstGeom>
          <a:solidFill>
            <a:srgbClr val="6600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2001960"/>
            <a:ext cx="1523880" cy="1191240"/>
          </a:xfrm>
          <a:prstGeom prst="rect">
            <a:avLst/>
          </a:prstGeom>
          <a:solidFill>
            <a:srgbClr val="6600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3400" y="2392920"/>
            <a:ext cx="21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3278160"/>
            <a:ext cx="1600200" cy="1191240"/>
          </a:xfrm>
          <a:prstGeom prst="rect">
            <a:avLst/>
          </a:prstGeom>
          <a:solidFill>
            <a:srgbClr val="6600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368856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Int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392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Proj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85920" y="461556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Narrow"/>
              </a:rPr>
              <a:t>PERCE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50120" y="1639440"/>
            <a:ext cx="1858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Narrow"/>
              </a:rPr>
              <a:t>COMPREH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02280" y="16250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Narrow"/>
              </a:rPr>
              <a:t>PROJ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97240" y="46155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Narrow"/>
              </a:rPr>
              <a:t>RE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920" y="2784600"/>
            <a:ext cx="1159200" cy="703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1080" y="2860560"/>
            <a:ext cx="1002240" cy="703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680" y="50403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s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32960" y="50418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61040" y="5713920"/>
            <a:ext cx="556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ense-mak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      when comprehension is uncert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cision-mak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 when resolution is uncert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19" idx="0"/>
            <a:endCxn id="220" idx="2"/>
          </p:cNvCxnSpPr>
          <p:nvPr/>
        </p:nvCxnSpPr>
        <p:spPr>
          <a:xfrm flipV="1" rot="16200000">
            <a:off x="1562760" y="3292560"/>
            <a:ext cx="2638800" cy="8640"/>
          </a:xfrm>
          <a:prstGeom prst="curvedConnector5">
            <a:avLst>
              <a:gd name="adj1" fmla="val 49938"/>
              <a:gd name="adj2" fmla="val 47826"/>
              <a:gd name="adj3" fmla="val 4993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1" idx="2"/>
            <a:endCxn id="222" idx="0"/>
          </p:cNvCxnSpPr>
          <p:nvPr/>
        </p:nvCxnSpPr>
        <p:spPr>
          <a:xfrm flipH="1" rot="16200000">
            <a:off x="5387760" y="3302280"/>
            <a:ext cx="26262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0" idx="3"/>
            <a:endCxn id="221" idx="1"/>
          </p:cNvCxnSpPr>
          <p:nvPr/>
        </p:nvCxnSpPr>
        <p:spPr>
          <a:xfrm>
            <a:off x="3808440" y="1807920"/>
            <a:ext cx="219312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6" idx="1"/>
            <a:endCxn id="225" idx="3"/>
          </p:cNvCxnSpPr>
          <p:nvPr/>
        </p:nvCxnSpPr>
        <p:spPr>
          <a:xfrm flipH="1" flipV="1">
            <a:off x="4420440" y="5207760"/>
            <a:ext cx="8118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5" idx="1"/>
            <a:endCxn id="219" idx="2"/>
          </p:cNvCxnSpPr>
          <p:nvPr/>
        </p:nvCxnSpPr>
        <p:spPr>
          <a:xfrm rot="10800000">
            <a:off x="2885400" y="4982400"/>
            <a:ext cx="619920" cy="226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2" idx="2"/>
            <a:endCxn id="226" idx="3"/>
          </p:cNvCxnSpPr>
          <p:nvPr/>
        </p:nvCxnSpPr>
        <p:spPr>
          <a:xfrm rot="5400000">
            <a:off x="6226920" y="4735080"/>
            <a:ext cx="227880" cy="723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9" idx="1"/>
            <a:endCxn id="224" idx="2"/>
          </p:cNvCxnSpPr>
          <p:nvPr/>
        </p:nvCxnSpPr>
        <p:spPr>
          <a:xfrm rot="10800000">
            <a:off x="1491480" y="3571200"/>
            <a:ext cx="693000" cy="12294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4" idx="0"/>
            <a:endCxn id="220" idx="1"/>
          </p:cNvCxnSpPr>
          <p:nvPr/>
        </p:nvCxnSpPr>
        <p:spPr>
          <a:xfrm flipH="1" flipV="1" rot="5400000">
            <a:off x="1194480" y="2105280"/>
            <a:ext cx="1053000" cy="457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1" idx="3"/>
            <a:endCxn id="223" idx="0"/>
          </p:cNvCxnSpPr>
          <p:nvPr/>
        </p:nvCxnSpPr>
        <p:spPr>
          <a:xfrm>
            <a:off x="7402320" y="1808280"/>
            <a:ext cx="494280" cy="9770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3" idx="2"/>
            <a:endCxn id="222" idx="3"/>
          </p:cNvCxnSpPr>
          <p:nvPr/>
        </p:nvCxnSpPr>
        <p:spPr>
          <a:xfrm rot="5400000">
            <a:off x="6999480" y="3904200"/>
            <a:ext cx="1305720" cy="4881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3124080" y="41911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1981080"/>
            <a:ext cx="3812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095880" y="19810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61722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acogni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d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king about thinking” or “knowledge about knowledg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.e. “Awareness of your own S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ing uncertainties, gaps, conflicts in your mental r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ing information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12720" indent="-182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ing strategies for sensemaking &amp; decision-m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lot3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382760" cy="1625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34120" y="4038480"/>
            <a:ext cx="2209680" cy="1143000"/>
          </a:xfrm>
          <a:prstGeom prst="cloudCallout">
            <a:avLst>
              <a:gd name="adj1" fmla="val -70328"/>
              <a:gd name="adj2" fmla="val 20138"/>
            </a:avLst>
          </a:prstGeom>
          <a:gradFill rotWithShape="0">
            <a:gsLst>
              <a:gs pos="0">
                <a:srgbClr val="5f5f5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4267080"/>
            <a:ext cx="914400" cy="7621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52880" y="4800240"/>
            <a:ext cx="990720" cy="228600"/>
          </a:xfrm>
          <a:prstGeom prst="line">
            <a:avLst/>
          </a:prstGeom>
          <a:ln w="572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5074200"/>
            <a:ext cx="23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t’s like looking over your own shoulder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21080" y="4129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7440" y="5333040"/>
            <a:ext cx="18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Gives a subj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ense of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A and metacogni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possible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2819520"/>
            <a:ext cx="3505320" cy="304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2819520"/>
            <a:ext cx="0" cy="304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434340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40120" y="3060360"/>
            <a:ext cx="149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pr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deal sta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07560" y="3047760"/>
            <a:ext cx="16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ppropr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anger sta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05120" y="4707360"/>
            <a:ext cx="17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ppropr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ma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08280" y="4723200"/>
            <a:ext cx="17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pr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ma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46760" y="23151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ue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50280" y="231516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se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40600" y="3351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dent in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53600" y="495216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confident in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63920" y="190404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Actual awarenes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61560" y="604908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 Narrow"/>
              </a:rPr>
              <a:t>Need for sensema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 rot="10800000">
            <a:off x="6706080" y="4952880"/>
            <a:ext cx="106632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 rot="10800000">
            <a:off x="6553440" y="3580560"/>
            <a:ext cx="137088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2240" y="411372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Subjective att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105520" y="2590920"/>
            <a:ext cx="2133360" cy="1981080"/>
          </a:xfrm>
          <a:prstGeom prst="ellipse">
            <a:avLst/>
          </a:prstGeom>
          <a:solidFill>
            <a:srgbClr val="100e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eam SA and shared 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the same 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am SA = sum of current knowledge held across a team, irrespective of who has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ared SA = those parts of the team SA that are common between team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2590920"/>
            <a:ext cx="1295640" cy="1218960"/>
          </a:xfrm>
          <a:prstGeom prst="ellipse">
            <a:avLst/>
          </a:prstGeom>
          <a:solidFill>
            <a:srgbClr val="6600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2971800"/>
            <a:ext cx="1295280" cy="1219320"/>
          </a:xfrm>
          <a:prstGeom prst="ellipse">
            <a:avLst/>
          </a:prstGeom>
          <a:solidFill>
            <a:srgbClr val="6600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3276720"/>
            <a:ext cx="1295280" cy="1218960"/>
          </a:xfrm>
          <a:prstGeom prst="ellipse">
            <a:avLst/>
          </a:prstGeom>
          <a:solidFill>
            <a:srgbClr val="6600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6080" y="49518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red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880" y="3581280"/>
            <a:ext cx="22852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320" y="190404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am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401520" y="1828440"/>
            <a:ext cx="106560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92480" y="51804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sonal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952880" y="4115160"/>
            <a:ext cx="22852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448" y="330"/>
                </a:moveTo>
                <a:arcTo wR="10800" hR="10800" stAng="-4548411" swAng="4548411"/>
                <a:lnTo>
                  <a:pt x="10800" y="10800"/>
                </a:lnTo>
                <a:close/>
              </a:path>
              <a:path fill="none" w="21600" h="21600">
                <a:moveTo>
                  <a:pt x="13448" y="330"/>
                </a:moveTo>
                <a:arcTo wR="10800" hR="10800" stAng="-4548411" swAng="4548411"/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ur objectiv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is mee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ibute what makes sense to us, in our given context and with our go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our wor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the ability to supply C3I ‘capabilities’ (in partnershi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ystems Engineering of socio-techn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n by need to deliver usable and demonstrable resul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ience as well as engineering and domain expert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2920" indent="0" algn="ctr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NB  We want to ensure that human issues drive the developments - but we don’t want to forget that we have to inform technology (as well as organization, process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0" algn="ctr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hat to share, with whom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nature of SA in groups is dictated b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als are hierarch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p-level goals are shared by all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refore need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shared S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ith respect to that obj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wer-level goals are specific to individu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refore need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personal S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ith respect to own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aring one’s SA is necessary only to the extent that the knowledge has bearing on the goals of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eam SA and shared 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ared SA elements can be differentially alloc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487692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419112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480060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373392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236232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5120" y="4190760"/>
            <a:ext cx="8380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895480" y="46479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58092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76720" y="3276720"/>
            <a:ext cx="759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495288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86600" y="510552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419112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327672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2743200"/>
            <a:ext cx="914400" cy="9144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248520" y="3581280"/>
            <a:ext cx="9903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238880" y="3657240"/>
            <a:ext cx="1526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772400" y="35812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400800" y="34290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3600" y="4191120"/>
            <a:ext cx="15228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4114800"/>
            <a:ext cx="9907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24480" y="3962520"/>
            <a:ext cx="16765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52280" y="1476360"/>
            <a:ext cx="8763120" cy="4924440"/>
          </a:xfrm>
          <a:prstGeom prst="rect">
            <a:avLst/>
          </a:prstGeom>
          <a:gradFill rotWithShape="0">
            <a:gsLst>
              <a:gs pos="0">
                <a:srgbClr val="100e23"/>
              </a:gs>
              <a:gs pos="50000">
                <a:srgbClr val="0033cc"/>
              </a:gs>
              <a:gs pos="100000">
                <a:srgbClr val="100e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84400" y="2475000"/>
            <a:ext cx="2764080" cy="1427040"/>
          </a:xfrm>
          <a:prstGeom prst="triangle">
            <a:avLst>
              <a:gd name="adj" fmla="val 48759"/>
            </a:avLst>
          </a:prstGeom>
          <a:solidFill>
            <a:srgbClr val="0066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4680" y="3759120"/>
            <a:ext cx="4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Transport MT"/>
                <a:ea typeface="Transport MT"/>
              </a:rPr>
              <a:t>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24520" y="1905120"/>
            <a:ext cx="3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Transport MT"/>
                <a:ea typeface="Transport MT"/>
              </a:rPr>
              <a:t>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82800" y="2903400"/>
            <a:ext cx="3168720" cy="335448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70280" y="3830760"/>
            <a:ext cx="0" cy="6429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8880" y="762120"/>
            <a:ext cx="68785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tributed SA in the C2 HQ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51120" y="301608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Vacation MT"/>
                <a:ea typeface="Vacation MT"/>
              </a:rPr>
              <a:t>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04400" y="29750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90760" y="373068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Vacation MT"/>
                <a:ea typeface="Vacation MT"/>
              </a:rPr>
              <a:t>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39880" y="283212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Vacation MT"/>
                <a:ea typeface="Vacation MT"/>
              </a:rPr>
              <a:t>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60640" y="3475080"/>
            <a:ext cx="876600" cy="855720"/>
          </a:xfrm>
          <a:prstGeom prst="rect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9040" y="4116240"/>
            <a:ext cx="0" cy="6429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5280" y="4116240"/>
            <a:ext cx="0" cy="6429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6360" y="3819600"/>
            <a:ext cx="0" cy="6429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42880" y="383076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Vacation MT"/>
                <a:ea typeface="Vacation MT"/>
              </a:rPr>
              <a:t>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87080" y="5116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7960" y="50450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an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1720" y="276084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16840" y="3902040"/>
            <a:ext cx="4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Vacation MT"/>
                <a:ea typeface="Vacation MT"/>
              </a:rPr>
              <a:t>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51520" y="4402080"/>
            <a:ext cx="1550880" cy="642960"/>
          </a:xfrm>
          <a:prstGeom prst="wedgeRoundRectCallout">
            <a:avLst>
              <a:gd name="adj1" fmla="val -85416"/>
              <a:gd name="adj2" fmla="val -55555"/>
              <a:gd name="adj3" fmla="val 16667"/>
            </a:avLst>
          </a:prstGeom>
          <a:solidFill>
            <a:srgbClr val="ffff00"/>
          </a:solidFill>
          <a:ln w="2844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e23"/>
                </a:solidFill>
                <a:latin typeface="Arial Narrow"/>
              </a:rPr>
              <a:t>Int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e23"/>
                </a:solidFill>
                <a:latin typeface="Times New Roman"/>
              </a:rPr>
              <a:t>(RESOLU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4545000"/>
            <a:ext cx="1603080" cy="571680"/>
          </a:xfrm>
          <a:prstGeom prst="wedgeRoundRectCallout">
            <a:avLst>
              <a:gd name="adj1" fmla="val 78513"/>
              <a:gd name="adj2" fmla="val -52500"/>
              <a:gd name="adj3" fmla="val 16667"/>
            </a:avLst>
          </a:prstGeom>
          <a:solidFill>
            <a:srgbClr val="ffff00"/>
          </a:solidFill>
          <a:ln w="2844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e23"/>
                </a:solidFill>
                <a:latin typeface="Arial Narrow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e23"/>
                </a:solidFill>
                <a:latin typeface="Times New Roman"/>
              </a:rPr>
              <a:t>(PERCEP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689200"/>
            <a:ext cx="1671480" cy="714240"/>
          </a:xfrm>
          <a:prstGeom prst="wedgeRoundRectCallout">
            <a:avLst>
              <a:gd name="adj1" fmla="val 90453"/>
              <a:gd name="adj2" fmla="val 47333"/>
              <a:gd name="adj3" fmla="val 16667"/>
            </a:avLst>
          </a:prstGeom>
          <a:solidFill>
            <a:srgbClr val="ffff00"/>
          </a:solidFill>
          <a:ln w="2844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e23"/>
                </a:solidFill>
                <a:latin typeface="Arial Narrow"/>
              </a:rPr>
              <a:t>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e23"/>
                </a:solidFill>
                <a:latin typeface="Times New Roman"/>
              </a:rPr>
              <a:t>(COMPREHEN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80240" y="3830760"/>
            <a:ext cx="4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Vacation MT"/>
                <a:ea typeface="Vacation MT"/>
              </a:rPr>
              <a:t>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000" y="1760400"/>
            <a:ext cx="1979640" cy="6429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31840" y="187812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0e23"/>
                </a:solidFill>
                <a:latin typeface="Arial Narrow"/>
              </a:rPr>
              <a:t>Metacognition</a:t>
            </a:r>
            <a:r>
              <a:rPr b="1" lang="en-US" sz="2000" spc="-1" strike="noStrike">
                <a:solidFill>
                  <a:srgbClr val="100e23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3800" y="1905120"/>
            <a:ext cx="3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Transport MT"/>
                <a:ea typeface="Transport MT"/>
              </a:rPr>
              <a:t>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86520" y="2903400"/>
            <a:ext cx="1457280" cy="642960"/>
          </a:xfrm>
          <a:prstGeom prst="wedgeRoundRectCallout">
            <a:avLst>
              <a:gd name="adj1" fmla="val -133550"/>
              <a:gd name="adj2" fmla="val 65555"/>
              <a:gd name="adj3" fmla="val 16667"/>
            </a:avLst>
          </a:prstGeom>
          <a:solidFill>
            <a:srgbClr val="ffff00"/>
          </a:solidFill>
          <a:ln w="2844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e23"/>
                </a:solidFill>
                <a:latin typeface="Arial Narrow"/>
              </a:rPr>
              <a:t>Proj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0e23"/>
                </a:solidFill>
                <a:latin typeface="Times New Roman"/>
              </a:rPr>
              <a:t>(PROJEC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..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licit sensemaking processes are needed when comprehension cannot easily occ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semaking requires metacognitive awareness of own knowledge -- uncertainties, g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cognitive assessments can be wrong and lead to inappropriate subjective attitude -- and inappropriate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ing 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504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41480" indent="-14148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GNITIVE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8080" indent="-194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ies about the sit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8080" indent="-194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eals mental r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06240" indent="-180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choice (SAGA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06240" indent="-180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ue/False (QUAS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06240" indent="-180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t Re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8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1480" indent="-14148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UBJECTIVE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8080" indent="-194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ratings of 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8080" indent="-19476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eals metacognitive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06240" indent="-180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dimensional (SA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06240" indent="-180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dimensional (SAR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06240" indent="-180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dimensional and intelligible! (CA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88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148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2896560"/>
            <a:ext cx="464832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OBJECTIVE appro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avioural &amp; physiological correl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eal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ang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etacognitive s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EG, fM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ye poi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85440"/>
            <a:ext cx="3205080" cy="64260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 a rule, take both cognitive &amp; subjective measures toge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A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771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ew Awareness Rating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 subjective tool to elicit operator’s subjective sense of 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ulti-dimen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generic, adaptable, easy to 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85920" y="2514600"/>
            <a:ext cx="6105600" cy="25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48000" y="2514600"/>
            <a:ext cx="4043520" cy="533520"/>
          </a:xfrm>
          <a:prstGeom prst="rect">
            <a:avLst/>
          </a:prstGeom>
          <a:solidFill>
            <a:srgbClr val="100e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 Rounded MT Bold"/>
              </a:rPr>
              <a:t>Knowledge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en-US" sz="1800" spc="-1" strike="noStrike">
                <a:solidFill>
                  <a:srgbClr val="99ccff"/>
                </a:solidFill>
                <a:latin typeface="Arial Rounded MT Bold"/>
              </a:rPr>
              <a:t>Proces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85920" y="3048120"/>
            <a:ext cx="2062080" cy="2057400"/>
          </a:xfrm>
          <a:prstGeom prst="rect">
            <a:avLst/>
          </a:prstGeom>
          <a:solidFill>
            <a:srgbClr val="100e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Perce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Compreh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Proj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Re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85920" y="2514600"/>
            <a:ext cx="2062080" cy="533520"/>
          </a:xfrm>
          <a:prstGeom prst="rect">
            <a:avLst/>
          </a:prstGeom>
          <a:solidFill>
            <a:srgbClr val="100e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85920" y="3581280"/>
            <a:ext cx="6105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85920" y="4038480"/>
            <a:ext cx="6022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85920" y="4572000"/>
            <a:ext cx="6105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29080" y="25146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24440" y="32004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72120" y="32004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19800" y="32004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67480" y="3200400"/>
            <a:ext cx="24624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43360" y="36576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91040" y="36576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38720" y="36576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86400" y="36576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24440" y="36576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72120" y="36576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19800" y="36576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67480" y="3657600"/>
            <a:ext cx="24624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43360" y="419112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91040" y="419112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38720" y="419112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86400" y="419112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24440" y="419112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72120" y="419112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19800" y="419112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67480" y="4191120"/>
            <a:ext cx="24624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43360" y="472428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91040" y="472428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38720" y="472428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86400" y="472428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24440" y="472428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72120" y="472428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19800" y="472428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67480" y="4724280"/>
            <a:ext cx="24624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43360" y="32004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91040" y="32004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38720" y="32004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86400" y="3200400"/>
            <a:ext cx="24768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0e23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ight CARS ques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30880" y="2284560"/>
            <a:ext cx="3951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. the most recent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2. what is really going on 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3. what could hap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4. what actions should be ta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78400" y="3962520"/>
            <a:ext cx="3903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. monitor the flow of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2. understand the big pi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3. predict how it is likely to evo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4. decide what actions to tak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2286000"/>
            <a:ext cx="36576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Rounded MT Bold"/>
              </a:rPr>
              <a:t>Would you say you ha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Rounded MT Bold"/>
              </a:rPr>
              <a:t>a good sense of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962520"/>
            <a:ext cx="36576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Rounded MT Bold"/>
              </a:rPr>
              <a:t>Would you say it is eas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Rounded MT Bold"/>
              </a:rPr>
              <a:t>for you to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42320" y="190512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19720" y="3565440"/>
            <a:ext cx="1268280" cy="703800"/>
          </a:xfrm>
          <a:prstGeom prst="rect">
            <a:avLst/>
          </a:prstGeom>
          <a:solidFill>
            <a:srgbClr val="100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ix possible respons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62040" y="2286000"/>
            <a:ext cx="470376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63840" y="2971800"/>
            <a:ext cx="1650960" cy="1206360"/>
          </a:xfrm>
          <a:prstGeom prst="rect">
            <a:avLst/>
          </a:prstGeom>
          <a:solidFill>
            <a:srgbClr val="100e2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3360" y="2286000"/>
            <a:ext cx="3052440" cy="685800"/>
          </a:xfrm>
          <a:prstGeom prst="rect">
            <a:avLst/>
          </a:prstGeom>
          <a:solidFill>
            <a:srgbClr val="100e2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erta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Uncert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80080" y="2286000"/>
            <a:ext cx="1440" cy="927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80080" y="2971800"/>
            <a:ext cx="1440" cy="1219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44840" y="3581280"/>
            <a:ext cx="4620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41680" y="31384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0e23"/>
                </a:solidFill>
                <a:latin typeface="Arial"/>
              </a:rPr>
              <a:t>Definit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0e23"/>
                </a:solidFill>
                <a:latin typeface="Arial"/>
              </a:rPr>
              <a:t>Definitel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0e23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54760" y="37479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0e23"/>
                </a:solidFill>
                <a:latin typeface="Arial"/>
              </a:rPr>
              <a:t>Think n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124080"/>
            <a:ext cx="14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0e23"/>
                </a:solidFill>
                <a:latin typeface="Arial"/>
              </a:rPr>
              <a:t>Think 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3360" y="1816200"/>
            <a:ext cx="3052440" cy="469800"/>
          </a:xfrm>
          <a:prstGeom prst="rect">
            <a:avLst/>
          </a:prstGeom>
          <a:solidFill>
            <a:srgbClr val="100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Times New Roman"/>
              </a:rPr>
              <a:t>For s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2040" y="3581280"/>
            <a:ext cx="1651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59320" y="4191120"/>
            <a:ext cx="7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 Rounded MT Bold"/>
              </a:rPr>
              <a:t>Don’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 Rounded MT Bold"/>
              </a:rPr>
              <a:t>kn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1320" y="4800600"/>
            <a:ext cx="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 Rounded MT Bold"/>
              </a:rPr>
              <a:t>Don’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 Rounded MT Bold"/>
              </a:rPr>
              <a:t>need 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6680" y="4419720"/>
            <a:ext cx="198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05520" y="4952880"/>
            <a:ext cx="198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62040" y="2286000"/>
            <a:ext cx="1651320" cy="685800"/>
          </a:xfrm>
          <a:prstGeom prst="rect">
            <a:avLst/>
          </a:prstGeom>
          <a:solidFill>
            <a:srgbClr val="100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2971800"/>
            <a:ext cx="3048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Times New Roman"/>
              </a:rPr>
              <a:t>Do I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91120" y="3200400"/>
            <a:ext cx="198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3809880"/>
            <a:ext cx="198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3200400"/>
            <a:ext cx="198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809880"/>
            <a:ext cx="198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ARS resul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1819440"/>
            <a:ext cx="91440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181944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38480" y="1819440"/>
            <a:ext cx="914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1819440"/>
            <a:ext cx="914400" cy="380880"/>
          </a:xfrm>
          <a:prstGeom prst="rect">
            <a:avLst/>
          </a:prstGeom>
          <a:solidFill>
            <a:srgbClr val="66ff33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2200320"/>
            <a:ext cx="8229600" cy="33249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0e23"/>
                </a:solidFill>
                <a:latin typeface="Arial Rounded MT Bold"/>
              </a:rPr>
              <a:t>CONT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Perception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Comprehension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Projection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Resolution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0e23"/>
                </a:solidFill>
                <a:latin typeface="Arial Rounded MT Bold"/>
              </a:rPr>
              <a:t>PROCESS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Perception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Comprehension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Projection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Resolution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||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 Rounded MT Bold"/>
              </a:rPr>
              <a:t>|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12080" y="186372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0e23"/>
                </a:solidFill>
                <a:latin typeface="Arial Rounded MT Bold"/>
              </a:rPr>
              <a:t>Def       Prob       Prob not  Def not</a:t>
            </a:r>
            <a:r>
              <a:rPr b="0" lang="en-US" sz="1600" spc="-1" strike="noStrike">
                <a:solidFill>
                  <a:srgbClr val="100e23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DK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1819440"/>
            <a:ext cx="914400" cy="3733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38480" y="1819440"/>
            <a:ext cx="914400" cy="3733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1819440"/>
            <a:ext cx="914400" cy="3733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1819440"/>
            <a:ext cx="914400" cy="3733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1680" y="1819440"/>
            <a:ext cx="914400" cy="3733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96080" y="1819440"/>
            <a:ext cx="914400" cy="3733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943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hat we mean by sensemak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691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1844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we want to use this concept to try and answer the questions we need to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8440" indent="-11844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r question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8440" indent="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How can we develop technology, design and manage systems which support/ enhance the human roles in defence operations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5080" indent="-1634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ignificant human role is ability to adapt, respond to unexpected, creativity, play mind games, etc.  Need to preserve &amp; enhance that - not interfere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25080" indent="-1634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upport is needed for dealing with the unexpected, the unknown, as well as recognisable situ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25080" indent="-1634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clude broad System of Systems issues, developers, rapid 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25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8440" indent="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Sensemaking (&amp; Situational Awareness) is a </a:t>
            </a:r>
            <a:r>
              <a:rPr b="1" i="1" lang="en-GB" sz="1800" spc="-1" strike="noStrike" u="sng">
                <a:solidFill>
                  <a:srgbClr val="ffcc00"/>
                </a:solidFill>
                <a:uFillTx/>
                <a:latin typeface="Arial"/>
              </a:rPr>
              <a:t>working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concept to enable us to start manipulating, analysing, and measuring context, goals and human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ARS resul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97040" y="2332080"/>
            <a:ext cx="6188040" cy="2986200"/>
          </a:xfrm>
          <a:prstGeom prst="rect">
            <a:avLst/>
          </a:prstGeom>
          <a:solidFill>
            <a:srgbClr val="100e23"/>
          </a:solidFill>
          <a:ln w="9360">
            <a:solidFill>
              <a:srgbClr val="6600ff"/>
            </a:solidFill>
            <a:miter/>
          </a:ln>
          <a:effectLst>
            <a:outerShdw dist="153753" dir="2700000" blurRad="0" rotWithShape="0">
              <a:srgbClr val="3c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5560" y="510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03480" y="4037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03480" y="2832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03480" y="458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03480" y="3427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-118800" y="3444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of ra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27160" y="22082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60440" y="4049640"/>
            <a:ext cx="755640" cy="1366920"/>
          </a:xfrm>
          <a:custGeom>
            <a:avLst/>
            <a:gdLst/>
            <a:ahLst/>
            <a:rect l="l" t="t" r="r" b="b"/>
            <a:pathLst>
              <a:path w="440" h="861">
                <a:moveTo>
                  <a:pt x="58" y="805"/>
                </a:moveTo>
                <a:cubicBezTo>
                  <a:pt x="187" y="610"/>
                  <a:pt x="0" y="861"/>
                  <a:pt x="222" y="690"/>
                </a:cubicBezTo>
                <a:cubicBezTo>
                  <a:pt x="248" y="670"/>
                  <a:pt x="307" y="569"/>
                  <a:pt x="321" y="526"/>
                </a:cubicBezTo>
                <a:cubicBezTo>
                  <a:pt x="328" y="438"/>
                  <a:pt x="357" y="341"/>
                  <a:pt x="304" y="263"/>
                </a:cubicBezTo>
                <a:cubicBezTo>
                  <a:pt x="294" y="231"/>
                  <a:pt x="293" y="195"/>
                  <a:pt x="280" y="164"/>
                </a:cubicBezTo>
                <a:cubicBezTo>
                  <a:pt x="275" y="151"/>
                  <a:pt x="241" y="88"/>
                  <a:pt x="230" y="66"/>
                </a:cubicBezTo>
                <a:cubicBezTo>
                  <a:pt x="218" y="42"/>
                  <a:pt x="209" y="18"/>
                  <a:pt x="189" y="0"/>
                </a:cubicBezTo>
                <a:lnTo>
                  <a:pt x="440" y="13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44720" y="3274920"/>
            <a:ext cx="123660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44720" y="2360520"/>
            <a:ext cx="1236600" cy="914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11440" y="5103720"/>
            <a:ext cx="115596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97520" y="5103720"/>
            <a:ext cx="115560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83240" y="5103720"/>
            <a:ext cx="115416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11440" y="3351240"/>
            <a:ext cx="115596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97520" y="3960720"/>
            <a:ext cx="1155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83240" y="4494240"/>
            <a:ext cx="115416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83240" y="2360520"/>
            <a:ext cx="1154160" cy="2133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97520" y="2360520"/>
            <a:ext cx="1155600" cy="1600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11440" y="2360520"/>
            <a:ext cx="1155960" cy="990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73400" y="5318280"/>
            <a:ext cx="57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n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Run 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Run 3          Run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934320" y="2554200"/>
            <a:ext cx="1904760" cy="1193760"/>
            <a:chOff x="6934320" y="2554200"/>
            <a:chExt cx="1904760" cy="1193760"/>
          </a:xfrm>
        </p:grpSpPr>
        <p:sp>
          <p:nvSpPr>
            <p:cNvPr id="450" name=""/>
            <p:cNvSpPr/>
            <p:nvPr/>
          </p:nvSpPr>
          <p:spPr>
            <a:xfrm>
              <a:off x="6934320" y="2554200"/>
              <a:ext cx="1904760" cy="119376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dddddd"/>
              </a:solidFill>
              <a:miter/>
            </a:ln>
            <a:effectLst>
              <a:outerShdw dist="53966" dir="2700000" blurRad="0" rotWithShape="0">
                <a:srgbClr val="100e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00e23"/>
                  </a:solidFill>
                  <a:latin typeface="Arial Narrow"/>
                </a:rPr>
                <a:t>1</a:t>
              </a:r>
              <a:r>
                <a:rPr b="0" lang="en-US" sz="1400" spc="-1" strike="noStrike">
                  <a:solidFill>
                    <a:srgbClr val="100e23"/>
                  </a:solidFill>
                  <a:latin typeface="Arial Narrow"/>
                </a:rPr>
                <a:t>.         </a:t>
              </a:r>
              <a:r>
                <a:rPr b="1" lang="en-US" sz="1400" spc="-1" strike="noStrike">
                  <a:solidFill>
                    <a:srgbClr val="100e23"/>
                  </a:solidFill>
                  <a:latin typeface="Arial Narrow"/>
                </a:rPr>
                <a:t>Definitel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00e23"/>
                  </a:solidFill>
                  <a:latin typeface="Arial Narrow"/>
                </a:rPr>
                <a:t>2.         Probabl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00e23"/>
                  </a:solidFill>
                  <a:latin typeface="Arial Narrow"/>
                </a:rPr>
                <a:t>3.         Probably NO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00e23"/>
                  </a:solidFill>
                  <a:latin typeface="Arial Narrow"/>
                </a:rPr>
                <a:t>4.         Definitely NO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21240" y="2554200"/>
              <a:ext cx="245880" cy="2286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100e23"/>
              </a:solidFill>
              <a:miter/>
            </a:ln>
            <a:effectLst>
              <a:outerShdw dist="17819" dir="2700000" blurRad="0" rotWithShape="0">
                <a:srgbClr val="100e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21240" y="2859120"/>
              <a:ext cx="2458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100e23"/>
              </a:solidFill>
              <a:miter/>
            </a:ln>
            <a:effectLst>
              <a:outerShdw dist="17819" dir="2700000" blurRad="0" rotWithShape="0">
                <a:srgbClr val="100e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21240" y="3164040"/>
              <a:ext cx="24588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100e23"/>
              </a:solidFill>
              <a:miter/>
            </a:ln>
            <a:effectLst>
              <a:outerShdw dist="17819" dir="2700000" blurRad="0" rotWithShape="0">
                <a:srgbClr val="100e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21240" y="3468600"/>
              <a:ext cx="2458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100e23"/>
              </a:solidFill>
              <a:miter/>
            </a:ln>
            <a:effectLst>
              <a:outerShdw dist="17819" dir="2700000" blurRad="0" rotWithShape="0">
                <a:srgbClr val="100e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573200" y="3960720"/>
            <a:ext cx="6477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85880" y="1675440"/>
            <a:ext cx="47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rehension knowledge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73080" y="1809720"/>
            <a:ext cx="771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Quantitative Assessment of Situational Aware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 probe tool to elicit operator’s actual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athematical : based on SD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till under development, but promi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gnal Detection The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76520" y="2666880"/>
            <a:ext cx="152280" cy="152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3733920"/>
            <a:ext cx="152640" cy="152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52480" y="3962520"/>
            <a:ext cx="152640" cy="152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23880" y="3657600"/>
            <a:ext cx="152640" cy="152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3581280"/>
            <a:ext cx="152280" cy="152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30481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29718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3429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3733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76520" y="3429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32767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30481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2514600"/>
            <a:ext cx="838080" cy="1905120"/>
          </a:xfrm>
          <a:custGeom>
            <a:avLst/>
            <a:gdLst>
              <a:gd name="textAreaLeft" fmla="*/ 0 w 838080"/>
              <a:gd name="textAreaRight" fmla="*/ 587880 w 838080"/>
              <a:gd name="textAreaTop" fmla="*/ 79200 h 1905120"/>
              <a:gd name="textAreaBottom" fmla="*/ 18259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886200" y="2666880"/>
            <a:ext cx="1638360" cy="1887480"/>
            <a:chOff x="3886200" y="2666880"/>
            <a:chExt cx="1638360" cy="1887480"/>
          </a:xfrm>
        </p:grpSpPr>
        <p:sp>
          <p:nvSpPr>
            <p:cNvPr id="478" name=""/>
            <p:cNvSpPr/>
            <p:nvPr/>
          </p:nvSpPr>
          <p:spPr>
            <a:xfrm>
              <a:off x="4192560" y="2777760"/>
              <a:ext cx="1225440" cy="1092240"/>
            </a:xfrm>
            <a:custGeom>
              <a:avLst/>
              <a:gdLst/>
              <a:ahLst/>
              <a:rect l="l" t="t" r="r" b="b"/>
              <a:pathLst>
                <a:path w="772" h="688">
                  <a:moveTo>
                    <a:pt x="130" y="425"/>
                  </a:moveTo>
                  <a:lnTo>
                    <a:pt x="101" y="414"/>
                  </a:lnTo>
                  <a:lnTo>
                    <a:pt x="75" y="399"/>
                  </a:lnTo>
                  <a:lnTo>
                    <a:pt x="53" y="381"/>
                  </a:lnTo>
                  <a:lnTo>
                    <a:pt x="34" y="360"/>
                  </a:lnTo>
                  <a:lnTo>
                    <a:pt x="20" y="338"/>
                  </a:lnTo>
                  <a:lnTo>
                    <a:pt x="8" y="312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3" y="227"/>
                  </a:lnTo>
                  <a:lnTo>
                    <a:pt x="10" y="197"/>
                  </a:lnTo>
                  <a:lnTo>
                    <a:pt x="21" y="167"/>
                  </a:lnTo>
                  <a:lnTo>
                    <a:pt x="37" y="137"/>
                  </a:lnTo>
                  <a:lnTo>
                    <a:pt x="57" y="109"/>
                  </a:lnTo>
                  <a:lnTo>
                    <a:pt x="80" y="84"/>
                  </a:lnTo>
                  <a:lnTo>
                    <a:pt x="108" y="62"/>
                  </a:lnTo>
                  <a:lnTo>
                    <a:pt x="138" y="44"/>
                  </a:lnTo>
                  <a:lnTo>
                    <a:pt x="172" y="28"/>
                  </a:lnTo>
                  <a:lnTo>
                    <a:pt x="208" y="15"/>
                  </a:lnTo>
                  <a:lnTo>
                    <a:pt x="247" y="6"/>
                  </a:lnTo>
                  <a:lnTo>
                    <a:pt x="288" y="1"/>
                  </a:lnTo>
                  <a:lnTo>
                    <a:pt x="331" y="0"/>
                  </a:lnTo>
                  <a:lnTo>
                    <a:pt x="377" y="1"/>
                  </a:lnTo>
                  <a:lnTo>
                    <a:pt x="422" y="6"/>
                  </a:lnTo>
                  <a:lnTo>
                    <a:pt x="468" y="15"/>
                  </a:lnTo>
                  <a:lnTo>
                    <a:pt x="515" y="27"/>
                  </a:lnTo>
                  <a:lnTo>
                    <a:pt x="562" y="43"/>
                  </a:lnTo>
                  <a:lnTo>
                    <a:pt x="609" y="62"/>
                  </a:lnTo>
                  <a:lnTo>
                    <a:pt x="637" y="78"/>
                  </a:lnTo>
                  <a:lnTo>
                    <a:pt x="663" y="99"/>
                  </a:lnTo>
                  <a:lnTo>
                    <a:pt x="688" y="122"/>
                  </a:lnTo>
                  <a:lnTo>
                    <a:pt x="708" y="151"/>
                  </a:lnTo>
                  <a:lnTo>
                    <a:pt x="728" y="182"/>
                  </a:lnTo>
                  <a:lnTo>
                    <a:pt x="744" y="218"/>
                  </a:lnTo>
                  <a:lnTo>
                    <a:pt x="755" y="254"/>
                  </a:lnTo>
                  <a:lnTo>
                    <a:pt x="765" y="293"/>
                  </a:lnTo>
                  <a:lnTo>
                    <a:pt x="770" y="333"/>
                  </a:lnTo>
                  <a:lnTo>
                    <a:pt x="772" y="373"/>
                  </a:lnTo>
                  <a:lnTo>
                    <a:pt x="770" y="414"/>
                  </a:lnTo>
                  <a:lnTo>
                    <a:pt x="763" y="454"/>
                  </a:lnTo>
                  <a:lnTo>
                    <a:pt x="754" y="492"/>
                  </a:lnTo>
                  <a:lnTo>
                    <a:pt x="741" y="529"/>
                  </a:lnTo>
                  <a:lnTo>
                    <a:pt x="725" y="563"/>
                  </a:lnTo>
                  <a:lnTo>
                    <a:pt x="706" y="594"/>
                  </a:lnTo>
                  <a:lnTo>
                    <a:pt x="684" y="621"/>
                  </a:lnTo>
                  <a:lnTo>
                    <a:pt x="659" y="645"/>
                  </a:lnTo>
                  <a:lnTo>
                    <a:pt x="633" y="664"/>
                  </a:lnTo>
                  <a:lnTo>
                    <a:pt x="604" y="679"/>
                  </a:lnTo>
                  <a:lnTo>
                    <a:pt x="580" y="685"/>
                  </a:lnTo>
                  <a:lnTo>
                    <a:pt x="557" y="688"/>
                  </a:lnTo>
                  <a:lnTo>
                    <a:pt x="533" y="685"/>
                  </a:lnTo>
                  <a:lnTo>
                    <a:pt x="510" y="678"/>
                  </a:lnTo>
                  <a:lnTo>
                    <a:pt x="488" y="666"/>
                  </a:lnTo>
                  <a:lnTo>
                    <a:pt x="468" y="650"/>
                  </a:lnTo>
                  <a:lnTo>
                    <a:pt x="451" y="632"/>
                  </a:lnTo>
                  <a:lnTo>
                    <a:pt x="437" y="610"/>
                  </a:lnTo>
                  <a:lnTo>
                    <a:pt x="428" y="585"/>
                  </a:lnTo>
                  <a:lnTo>
                    <a:pt x="421" y="559"/>
                  </a:lnTo>
                  <a:lnTo>
                    <a:pt x="416" y="551"/>
                  </a:lnTo>
                  <a:lnTo>
                    <a:pt x="405" y="543"/>
                  </a:lnTo>
                  <a:lnTo>
                    <a:pt x="391" y="535"/>
                  </a:lnTo>
                  <a:lnTo>
                    <a:pt x="373" y="527"/>
                  </a:lnTo>
                  <a:lnTo>
                    <a:pt x="351" y="521"/>
                  </a:lnTo>
                  <a:lnTo>
                    <a:pt x="326" y="513"/>
                  </a:lnTo>
                  <a:lnTo>
                    <a:pt x="309" y="501"/>
                  </a:lnTo>
                  <a:lnTo>
                    <a:pt x="293" y="487"/>
                  </a:lnTo>
                  <a:lnTo>
                    <a:pt x="280" y="470"/>
                  </a:lnTo>
                  <a:lnTo>
                    <a:pt x="270" y="450"/>
                  </a:lnTo>
                  <a:lnTo>
                    <a:pt x="263" y="446"/>
                  </a:lnTo>
                  <a:lnTo>
                    <a:pt x="255" y="446"/>
                  </a:lnTo>
                  <a:lnTo>
                    <a:pt x="249" y="449"/>
                  </a:lnTo>
                  <a:lnTo>
                    <a:pt x="243" y="455"/>
                  </a:lnTo>
                  <a:lnTo>
                    <a:pt x="241" y="463"/>
                  </a:lnTo>
                  <a:lnTo>
                    <a:pt x="245" y="474"/>
                  </a:lnTo>
                  <a:lnTo>
                    <a:pt x="245" y="486"/>
                  </a:lnTo>
                  <a:lnTo>
                    <a:pt x="241" y="496"/>
                  </a:lnTo>
                  <a:lnTo>
                    <a:pt x="233" y="504"/>
                  </a:lnTo>
                  <a:lnTo>
                    <a:pt x="222" y="508"/>
                  </a:lnTo>
                  <a:lnTo>
                    <a:pt x="212" y="506"/>
                  </a:lnTo>
                  <a:lnTo>
                    <a:pt x="203" y="500"/>
                  </a:lnTo>
                  <a:lnTo>
                    <a:pt x="196" y="489"/>
                  </a:lnTo>
                  <a:lnTo>
                    <a:pt x="195" y="479"/>
                  </a:lnTo>
                  <a:lnTo>
                    <a:pt x="198" y="467"/>
                  </a:lnTo>
                  <a:lnTo>
                    <a:pt x="204" y="458"/>
                  </a:lnTo>
                  <a:lnTo>
                    <a:pt x="207" y="452"/>
                  </a:lnTo>
                  <a:lnTo>
                    <a:pt x="204" y="442"/>
                  </a:lnTo>
                  <a:lnTo>
                    <a:pt x="198" y="436"/>
                  </a:lnTo>
                  <a:lnTo>
                    <a:pt x="189" y="431"/>
                  </a:lnTo>
                  <a:lnTo>
                    <a:pt x="181" y="429"/>
                  </a:lnTo>
                  <a:lnTo>
                    <a:pt x="155" y="428"/>
                  </a:lnTo>
                  <a:lnTo>
                    <a:pt x="130" y="425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29160" y="3322440"/>
              <a:ext cx="363600" cy="677880"/>
            </a:xfrm>
            <a:custGeom>
              <a:avLst/>
              <a:gdLst/>
              <a:ahLst/>
              <a:rect l="l" t="t" r="r" b="b"/>
              <a:pathLst>
                <a:path w="229" h="427">
                  <a:moveTo>
                    <a:pt x="33" y="24"/>
                  </a:moveTo>
                  <a:lnTo>
                    <a:pt x="20" y="35"/>
                  </a:lnTo>
                  <a:lnTo>
                    <a:pt x="9" y="50"/>
                  </a:lnTo>
                  <a:lnTo>
                    <a:pt x="8" y="58"/>
                  </a:lnTo>
                  <a:lnTo>
                    <a:pt x="4" y="67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6"/>
                  </a:lnTo>
                  <a:lnTo>
                    <a:pt x="10" y="76"/>
                  </a:lnTo>
                  <a:lnTo>
                    <a:pt x="17" y="77"/>
                  </a:lnTo>
                  <a:lnTo>
                    <a:pt x="21" y="82"/>
                  </a:lnTo>
                  <a:lnTo>
                    <a:pt x="22" y="90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13" y="111"/>
                  </a:lnTo>
                  <a:lnTo>
                    <a:pt x="16" y="111"/>
                  </a:lnTo>
                  <a:lnTo>
                    <a:pt x="18" y="109"/>
                  </a:lnTo>
                  <a:lnTo>
                    <a:pt x="25" y="101"/>
                  </a:lnTo>
                  <a:lnTo>
                    <a:pt x="34" y="94"/>
                  </a:lnTo>
                  <a:lnTo>
                    <a:pt x="44" y="88"/>
                  </a:lnTo>
                  <a:lnTo>
                    <a:pt x="58" y="85"/>
                  </a:lnTo>
                  <a:lnTo>
                    <a:pt x="69" y="82"/>
                  </a:lnTo>
                  <a:lnTo>
                    <a:pt x="78" y="81"/>
                  </a:lnTo>
                  <a:lnTo>
                    <a:pt x="86" y="81"/>
                  </a:lnTo>
                  <a:lnTo>
                    <a:pt x="99" y="84"/>
                  </a:lnTo>
                  <a:lnTo>
                    <a:pt x="112" y="89"/>
                  </a:lnTo>
                  <a:lnTo>
                    <a:pt x="123" y="98"/>
                  </a:lnTo>
                  <a:lnTo>
                    <a:pt x="132" y="110"/>
                  </a:lnTo>
                  <a:lnTo>
                    <a:pt x="137" y="124"/>
                  </a:lnTo>
                  <a:lnTo>
                    <a:pt x="149" y="163"/>
                  </a:lnTo>
                  <a:lnTo>
                    <a:pt x="158" y="200"/>
                  </a:lnTo>
                  <a:lnTo>
                    <a:pt x="175" y="256"/>
                  </a:lnTo>
                  <a:lnTo>
                    <a:pt x="188" y="312"/>
                  </a:lnTo>
                  <a:lnTo>
                    <a:pt x="197" y="370"/>
                  </a:lnTo>
                  <a:lnTo>
                    <a:pt x="204" y="427"/>
                  </a:lnTo>
                  <a:lnTo>
                    <a:pt x="222" y="427"/>
                  </a:lnTo>
                  <a:lnTo>
                    <a:pt x="219" y="384"/>
                  </a:lnTo>
                  <a:lnTo>
                    <a:pt x="214" y="340"/>
                  </a:lnTo>
                  <a:lnTo>
                    <a:pt x="206" y="297"/>
                  </a:lnTo>
                  <a:lnTo>
                    <a:pt x="195" y="255"/>
                  </a:lnTo>
                  <a:lnTo>
                    <a:pt x="188" y="238"/>
                  </a:lnTo>
                  <a:lnTo>
                    <a:pt x="184" y="224"/>
                  </a:lnTo>
                  <a:lnTo>
                    <a:pt x="183" y="212"/>
                  </a:lnTo>
                  <a:lnTo>
                    <a:pt x="183" y="203"/>
                  </a:lnTo>
                  <a:lnTo>
                    <a:pt x="187" y="196"/>
                  </a:lnTo>
                  <a:lnTo>
                    <a:pt x="192" y="193"/>
                  </a:lnTo>
                  <a:lnTo>
                    <a:pt x="200" y="190"/>
                  </a:lnTo>
                  <a:lnTo>
                    <a:pt x="213" y="188"/>
                  </a:lnTo>
                  <a:lnTo>
                    <a:pt x="229" y="187"/>
                  </a:lnTo>
                  <a:lnTo>
                    <a:pt x="212" y="187"/>
                  </a:lnTo>
                  <a:lnTo>
                    <a:pt x="195" y="182"/>
                  </a:lnTo>
                  <a:lnTo>
                    <a:pt x="179" y="174"/>
                  </a:lnTo>
                  <a:lnTo>
                    <a:pt x="167" y="162"/>
                  </a:lnTo>
                  <a:lnTo>
                    <a:pt x="158" y="146"/>
                  </a:lnTo>
                  <a:lnTo>
                    <a:pt x="154" y="131"/>
                  </a:lnTo>
                  <a:lnTo>
                    <a:pt x="148" y="110"/>
                  </a:lnTo>
                  <a:lnTo>
                    <a:pt x="144" y="92"/>
                  </a:lnTo>
                  <a:lnTo>
                    <a:pt x="144" y="76"/>
                  </a:lnTo>
                  <a:lnTo>
                    <a:pt x="146" y="63"/>
                  </a:lnTo>
                  <a:lnTo>
                    <a:pt x="153" y="54"/>
                  </a:lnTo>
                  <a:lnTo>
                    <a:pt x="162" y="48"/>
                  </a:lnTo>
                  <a:lnTo>
                    <a:pt x="174" y="46"/>
                  </a:lnTo>
                  <a:lnTo>
                    <a:pt x="189" y="48"/>
                  </a:lnTo>
                  <a:lnTo>
                    <a:pt x="206" y="54"/>
                  </a:lnTo>
                  <a:lnTo>
                    <a:pt x="206" y="54"/>
                  </a:lnTo>
                  <a:lnTo>
                    <a:pt x="201" y="45"/>
                  </a:lnTo>
                  <a:lnTo>
                    <a:pt x="196" y="35"/>
                  </a:lnTo>
                  <a:lnTo>
                    <a:pt x="193" y="24"/>
                  </a:lnTo>
                  <a:lnTo>
                    <a:pt x="193" y="22"/>
                  </a:lnTo>
                  <a:lnTo>
                    <a:pt x="172" y="12"/>
                  </a:lnTo>
                  <a:lnTo>
                    <a:pt x="150" y="4"/>
                  </a:lnTo>
                  <a:lnTo>
                    <a:pt x="127" y="0"/>
                  </a:lnTo>
                  <a:lnTo>
                    <a:pt x="103" y="0"/>
                  </a:lnTo>
                  <a:lnTo>
                    <a:pt x="78" y="4"/>
                  </a:lnTo>
                  <a:lnTo>
                    <a:pt x="56" y="12"/>
                  </a:lnTo>
                  <a:lnTo>
                    <a:pt x="35" y="24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00808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13320" y="345096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" y="17"/>
                  </a:moveTo>
                  <a:lnTo>
                    <a:pt x="0" y="12"/>
                  </a:lnTo>
                  <a:lnTo>
                    <a:pt x="2" y="5"/>
                  </a:lnTo>
                  <a:lnTo>
                    <a:pt x="9" y="1"/>
                  </a:lnTo>
                  <a:lnTo>
                    <a:pt x="17" y="0"/>
                  </a:lnTo>
                  <a:lnTo>
                    <a:pt x="23" y="3"/>
                  </a:lnTo>
                  <a:lnTo>
                    <a:pt x="26" y="8"/>
                  </a:lnTo>
                  <a:lnTo>
                    <a:pt x="26" y="13"/>
                  </a:lnTo>
                  <a:lnTo>
                    <a:pt x="23" y="18"/>
                  </a:lnTo>
                  <a:lnTo>
                    <a:pt x="18" y="22"/>
                  </a:lnTo>
                  <a:lnTo>
                    <a:pt x="10" y="24"/>
                  </a:lnTo>
                  <a:lnTo>
                    <a:pt x="5" y="2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02280" y="2787480"/>
              <a:ext cx="1199880" cy="885600"/>
            </a:xfrm>
            <a:custGeom>
              <a:avLst/>
              <a:gdLst/>
              <a:ahLst/>
              <a:rect l="l" t="t" r="r" b="b"/>
              <a:pathLst>
                <a:path w="756" h="558">
                  <a:moveTo>
                    <a:pt x="619" y="73"/>
                  </a:moveTo>
                  <a:lnTo>
                    <a:pt x="645" y="93"/>
                  </a:lnTo>
                  <a:lnTo>
                    <a:pt x="670" y="118"/>
                  </a:lnTo>
                  <a:lnTo>
                    <a:pt x="692" y="146"/>
                  </a:lnTo>
                  <a:lnTo>
                    <a:pt x="712" y="178"/>
                  </a:lnTo>
                  <a:lnTo>
                    <a:pt x="729" y="213"/>
                  </a:lnTo>
                  <a:lnTo>
                    <a:pt x="740" y="250"/>
                  </a:lnTo>
                  <a:lnTo>
                    <a:pt x="749" y="289"/>
                  </a:lnTo>
                  <a:lnTo>
                    <a:pt x="755" y="329"/>
                  </a:lnTo>
                  <a:lnTo>
                    <a:pt x="756" y="371"/>
                  </a:lnTo>
                  <a:lnTo>
                    <a:pt x="755" y="413"/>
                  </a:lnTo>
                  <a:lnTo>
                    <a:pt x="748" y="453"/>
                  </a:lnTo>
                  <a:lnTo>
                    <a:pt x="738" y="493"/>
                  </a:lnTo>
                  <a:lnTo>
                    <a:pt x="732" y="511"/>
                  </a:lnTo>
                  <a:lnTo>
                    <a:pt x="723" y="528"/>
                  </a:lnTo>
                  <a:lnTo>
                    <a:pt x="710" y="541"/>
                  </a:lnTo>
                  <a:lnTo>
                    <a:pt x="696" y="550"/>
                  </a:lnTo>
                  <a:lnTo>
                    <a:pt x="679" y="557"/>
                  </a:lnTo>
                  <a:lnTo>
                    <a:pt x="661" y="558"/>
                  </a:lnTo>
                  <a:lnTo>
                    <a:pt x="642" y="555"/>
                  </a:lnTo>
                  <a:lnTo>
                    <a:pt x="624" y="549"/>
                  </a:lnTo>
                  <a:lnTo>
                    <a:pt x="606" y="540"/>
                  </a:lnTo>
                  <a:lnTo>
                    <a:pt x="590" y="525"/>
                  </a:lnTo>
                  <a:lnTo>
                    <a:pt x="577" y="508"/>
                  </a:lnTo>
                  <a:lnTo>
                    <a:pt x="568" y="499"/>
                  </a:lnTo>
                  <a:lnTo>
                    <a:pt x="561" y="486"/>
                  </a:lnTo>
                  <a:lnTo>
                    <a:pt x="557" y="469"/>
                  </a:lnTo>
                  <a:lnTo>
                    <a:pt x="556" y="448"/>
                  </a:lnTo>
                  <a:lnTo>
                    <a:pt x="559" y="425"/>
                  </a:lnTo>
                  <a:lnTo>
                    <a:pt x="563" y="397"/>
                  </a:lnTo>
                  <a:lnTo>
                    <a:pt x="569" y="368"/>
                  </a:lnTo>
                  <a:lnTo>
                    <a:pt x="569" y="385"/>
                  </a:lnTo>
                  <a:lnTo>
                    <a:pt x="565" y="402"/>
                  </a:lnTo>
                  <a:lnTo>
                    <a:pt x="557" y="417"/>
                  </a:lnTo>
                  <a:lnTo>
                    <a:pt x="546" y="429"/>
                  </a:lnTo>
                  <a:lnTo>
                    <a:pt x="531" y="436"/>
                  </a:lnTo>
                  <a:lnTo>
                    <a:pt x="517" y="439"/>
                  </a:lnTo>
                  <a:lnTo>
                    <a:pt x="501" y="438"/>
                  </a:lnTo>
                  <a:lnTo>
                    <a:pt x="487" y="431"/>
                  </a:lnTo>
                  <a:lnTo>
                    <a:pt x="475" y="421"/>
                  </a:lnTo>
                  <a:lnTo>
                    <a:pt x="466" y="406"/>
                  </a:lnTo>
                  <a:lnTo>
                    <a:pt x="461" y="391"/>
                  </a:lnTo>
                  <a:lnTo>
                    <a:pt x="459" y="374"/>
                  </a:lnTo>
                  <a:lnTo>
                    <a:pt x="463" y="357"/>
                  </a:lnTo>
                  <a:lnTo>
                    <a:pt x="446" y="329"/>
                  </a:lnTo>
                  <a:lnTo>
                    <a:pt x="425" y="303"/>
                  </a:lnTo>
                  <a:lnTo>
                    <a:pt x="403" y="282"/>
                  </a:lnTo>
                  <a:lnTo>
                    <a:pt x="377" y="263"/>
                  </a:lnTo>
                  <a:lnTo>
                    <a:pt x="351" y="248"/>
                  </a:lnTo>
                  <a:lnTo>
                    <a:pt x="322" y="237"/>
                  </a:lnTo>
                  <a:lnTo>
                    <a:pt x="292" y="229"/>
                  </a:lnTo>
                  <a:lnTo>
                    <a:pt x="261" y="227"/>
                  </a:lnTo>
                  <a:lnTo>
                    <a:pt x="231" y="227"/>
                  </a:lnTo>
                  <a:lnTo>
                    <a:pt x="203" y="229"/>
                  </a:lnTo>
                  <a:lnTo>
                    <a:pt x="181" y="234"/>
                  </a:lnTo>
                  <a:lnTo>
                    <a:pt x="162" y="240"/>
                  </a:lnTo>
                  <a:lnTo>
                    <a:pt x="146" y="250"/>
                  </a:lnTo>
                  <a:lnTo>
                    <a:pt x="136" y="261"/>
                  </a:lnTo>
                  <a:lnTo>
                    <a:pt x="132" y="277"/>
                  </a:lnTo>
                  <a:lnTo>
                    <a:pt x="132" y="293"/>
                  </a:lnTo>
                  <a:lnTo>
                    <a:pt x="136" y="308"/>
                  </a:lnTo>
                  <a:lnTo>
                    <a:pt x="142" y="321"/>
                  </a:lnTo>
                  <a:lnTo>
                    <a:pt x="152" y="333"/>
                  </a:lnTo>
                  <a:lnTo>
                    <a:pt x="164" y="342"/>
                  </a:lnTo>
                  <a:lnTo>
                    <a:pt x="177" y="346"/>
                  </a:lnTo>
                  <a:lnTo>
                    <a:pt x="189" y="353"/>
                  </a:lnTo>
                  <a:lnTo>
                    <a:pt x="198" y="362"/>
                  </a:lnTo>
                  <a:lnTo>
                    <a:pt x="205" y="374"/>
                  </a:lnTo>
                  <a:lnTo>
                    <a:pt x="206" y="385"/>
                  </a:lnTo>
                  <a:lnTo>
                    <a:pt x="205" y="396"/>
                  </a:lnTo>
                  <a:lnTo>
                    <a:pt x="198" y="406"/>
                  </a:lnTo>
                  <a:lnTo>
                    <a:pt x="189" y="413"/>
                  </a:lnTo>
                  <a:lnTo>
                    <a:pt x="159" y="414"/>
                  </a:lnTo>
                  <a:lnTo>
                    <a:pt x="132" y="410"/>
                  </a:lnTo>
                  <a:lnTo>
                    <a:pt x="104" y="402"/>
                  </a:lnTo>
                  <a:lnTo>
                    <a:pt x="78" y="389"/>
                  </a:lnTo>
                  <a:lnTo>
                    <a:pt x="56" y="374"/>
                  </a:lnTo>
                  <a:lnTo>
                    <a:pt x="36" y="354"/>
                  </a:lnTo>
                  <a:lnTo>
                    <a:pt x="21" y="332"/>
                  </a:lnTo>
                  <a:lnTo>
                    <a:pt x="10" y="307"/>
                  </a:lnTo>
                  <a:lnTo>
                    <a:pt x="2" y="281"/>
                  </a:lnTo>
                  <a:lnTo>
                    <a:pt x="0" y="253"/>
                  </a:lnTo>
                  <a:lnTo>
                    <a:pt x="2" y="226"/>
                  </a:lnTo>
                  <a:lnTo>
                    <a:pt x="10" y="195"/>
                  </a:lnTo>
                  <a:lnTo>
                    <a:pt x="22" y="165"/>
                  </a:lnTo>
                  <a:lnTo>
                    <a:pt x="38" y="136"/>
                  </a:lnTo>
                  <a:lnTo>
                    <a:pt x="57" y="108"/>
                  </a:lnTo>
                  <a:lnTo>
                    <a:pt x="82" y="85"/>
                  </a:lnTo>
                  <a:lnTo>
                    <a:pt x="108" y="63"/>
                  </a:lnTo>
                  <a:lnTo>
                    <a:pt x="139" y="43"/>
                  </a:lnTo>
                  <a:lnTo>
                    <a:pt x="172" y="27"/>
                  </a:lnTo>
                  <a:lnTo>
                    <a:pt x="207" y="16"/>
                  </a:lnTo>
                  <a:lnTo>
                    <a:pt x="244" y="7"/>
                  </a:lnTo>
                  <a:lnTo>
                    <a:pt x="282" y="1"/>
                  </a:lnTo>
                  <a:lnTo>
                    <a:pt x="320" y="0"/>
                  </a:lnTo>
                  <a:lnTo>
                    <a:pt x="359" y="3"/>
                  </a:lnTo>
                  <a:lnTo>
                    <a:pt x="412" y="8"/>
                  </a:lnTo>
                  <a:lnTo>
                    <a:pt x="465" y="18"/>
                  </a:lnTo>
                  <a:lnTo>
                    <a:pt x="517" y="31"/>
                  </a:lnTo>
                  <a:lnTo>
                    <a:pt x="569" y="50"/>
                  </a:lnTo>
                  <a:lnTo>
                    <a:pt x="619" y="73"/>
                  </a:lnTo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78320" y="33876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11" y="7"/>
                  </a:lnTo>
                  <a:lnTo>
                    <a:pt x="23" y="11"/>
                  </a:lnTo>
                  <a:lnTo>
                    <a:pt x="36" y="13"/>
                  </a:lnTo>
                  <a:lnTo>
                    <a:pt x="49" y="1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25880" y="2882520"/>
              <a:ext cx="28800" cy="119160"/>
            </a:xfrm>
            <a:custGeom>
              <a:avLst/>
              <a:gdLst/>
              <a:ahLst/>
              <a:rect l="l" t="t" r="r" b="b"/>
              <a:pathLst>
                <a:path w="18" h="75">
                  <a:moveTo>
                    <a:pt x="18" y="0"/>
                  </a:moveTo>
                  <a:lnTo>
                    <a:pt x="18" y="20"/>
                  </a:lnTo>
                  <a:lnTo>
                    <a:pt x="14" y="39"/>
                  </a:lnTo>
                  <a:lnTo>
                    <a:pt x="9" y="58"/>
                  </a:lnTo>
                  <a:lnTo>
                    <a:pt x="0" y="75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45120" y="310644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0"/>
                  </a:moveTo>
                  <a:lnTo>
                    <a:pt x="9" y="9"/>
                  </a:lnTo>
                  <a:lnTo>
                    <a:pt x="17" y="19"/>
                  </a:lnTo>
                  <a:lnTo>
                    <a:pt x="22" y="3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30640" y="3222360"/>
              <a:ext cx="41400" cy="6048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4" y="11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35600" y="33271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19"/>
                  </a:moveTo>
                  <a:lnTo>
                    <a:pt x="3" y="10"/>
                  </a:lnTo>
                  <a:lnTo>
                    <a:pt x="8" y="4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73760" y="331452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4" y="10"/>
                  </a:lnTo>
                  <a:lnTo>
                    <a:pt x="11" y="19"/>
                  </a:lnTo>
                  <a:lnTo>
                    <a:pt x="20" y="23"/>
                  </a:lnTo>
                  <a:lnTo>
                    <a:pt x="31" y="25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19600" y="311292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0"/>
                  </a:moveTo>
                  <a:lnTo>
                    <a:pt x="8" y="12"/>
                  </a:lnTo>
                  <a:lnTo>
                    <a:pt x="19" y="21"/>
                  </a:lnTo>
                  <a:lnTo>
                    <a:pt x="32" y="25"/>
                  </a:lnTo>
                  <a:lnTo>
                    <a:pt x="39" y="29"/>
                  </a:lnTo>
                  <a:lnTo>
                    <a:pt x="45" y="35"/>
                  </a:lnTo>
                  <a:lnTo>
                    <a:pt x="47" y="45"/>
                  </a:lnTo>
                  <a:lnTo>
                    <a:pt x="47" y="54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49680" y="3082680"/>
              <a:ext cx="32040" cy="6336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20" y="40"/>
                  </a:moveTo>
                  <a:lnTo>
                    <a:pt x="11" y="36"/>
                  </a:lnTo>
                  <a:lnTo>
                    <a:pt x="4" y="30"/>
                  </a:lnTo>
                  <a:lnTo>
                    <a:pt x="0" y="1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21160" y="3057120"/>
              <a:ext cx="638280" cy="271800"/>
            </a:xfrm>
            <a:custGeom>
              <a:avLst/>
              <a:gdLst/>
              <a:ahLst/>
              <a:rect l="l" t="t" r="r" b="b"/>
              <a:pathLst>
                <a:path w="402" h="171">
                  <a:moveTo>
                    <a:pt x="0" y="47"/>
                  </a:moveTo>
                  <a:lnTo>
                    <a:pt x="8" y="33"/>
                  </a:lnTo>
                  <a:lnTo>
                    <a:pt x="18" y="19"/>
                  </a:lnTo>
                  <a:lnTo>
                    <a:pt x="30" y="9"/>
                  </a:lnTo>
                  <a:lnTo>
                    <a:pt x="45" y="2"/>
                  </a:lnTo>
                  <a:lnTo>
                    <a:pt x="60" y="1"/>
                  </a:lnTo>
                  <a:lnTo>
                    <a:pt x="101" y="0"/>
                  </a:lnTo>
                  <a:lnTo>
                    <a:pt x="143" y="5"/>
                  </a:lnTo>
                  <a:lnTo>
                    <a:pt x="182" y="14"/>
                  </a:lnTo>
                  <a:lnTo>
                    <a:pt x="221" y="29"/>
                  </a:lnTo>
                  <a:lnTo>
                    <a:pt x="257" y="48"/>
                  </a:lnTo>
                  <a:lnTo>
                    <a:pt x="293" y="72"/>
                  </a:lnTo>
                  <a:lnTo>
                    <a:pt x="325" y="99"/>
                  </a:lnTo>
                  <a:lnTo>
                    <a:pt x="354" y="131"/>
                  </a:lnTo>
                  <a:lnTo>
                    <a:pt x="382" y="164"/>
                  </a:lnTo>
                  <a:lnTo>
                    <a:pt x="385" y="170"/>
                  </a:lnTo>
                  <a:lnTo>
                    <a:pt x="391" y="171"/>
                  </a:lnTo>
                  <a:lnTo>
                    <a:pt x="397" y="170"/>
                  </a:lnTo>
                  <a:lnTo>
                    <a:pt x="402" y="16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19640" y="3173040"/>
              <a:ext cx="168480" cy="9684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59" y="60"/>
                  </a:moveTo>
                  <a:lnTo>
                    <a:pt x="71" y="61"/>
                  </a:lnTo>
                  <a:lnTo>
                    <a:pt x="82" y="60"/>
                  </a:lnTo>
                  <a:lnTo>
                    <a:pt x="93" y="56"/>
                  </a:lnTo>
                  <a:lnTo>
                    <a:pt x="101" y="50"/>
                  </a:lnTo>
                  <a:lnTo>
                    <a:pt x="105" y="42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94" y="13"/>
                  </a:lnTo>
                  <a:lnTo>
                    <a:pt x="82" y="7"/>
                  </a:lnTo>
                  <a:lnTo>
                    <a:pt x="69" y="3"/>
                  </a:lnTo>
                  <a:lnTo>
                    <a:pt x="54" y="0"/>
                  </a:lnTo>
                  <a:lnTo>
                    <a:pt x="39" y="1"/>
                  </a:lnTo>
                  <a:lnTo>
                    <a:pt x="25" y="5"/>
                  </a:lnTo>
                  <a:lnTo>
                    <a:pt x="13" y="12"/>
                  </a:lnTo>
                  <a:lnTo>
                    <a:pt x="4" y="21"/>
                  </a:lnTo>
                  <a:lnTo>
                    <a:pt x="0" y="3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59520" y="3362040"/>
              <a:ext cx="88920" cy="12060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56" y="1"/>
                  </a:moveTo>
                  <a:lnTo>
                    <a:pt x="43" y="0"/>
                  </a:lnTo>
                  <a:lnTo>
                    <a:pt x="30" y="3"/>
                  </a:lnTo>
                  <a:lnTo>
                    <a:pt x="18" y="9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47"/>
                  </a:lnTo>
                  <a:lnTo>
                    <a:pt x="1" y="63"/>
                  </a:lnTo>
                  <a:lnTo>
                    <a:pt x="7" y="76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27560" y="3449520"/>
              <a:ext cx="95400" cy="8244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60" y="18"/>
                  </a:moveTo>
                  <a:lnTo>
                    <a:pt x="54" y="9"/>
                  </a:lnTo>
                  <a:lnTo>
                    <a:pt x="45" y="2"/>
                  </a:lnTo>
                  <a:lnTo>
                    <a:pt x="33" y="0"/>
                  </a:lnTo>
                  <a:lnTo>
                    <a:pt x="22" y="1"/>
                  </a:lnTo>
                  <a:lnTo>
                    <a:pt x="12" y="8"/>
                  </a:lnTo>
                  <a:lnTo>
                    <a:pt x="4" y="17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3" y="5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30720" y="3342960"/>
              <a:ext cx="198720" cy="193680"/>
            </a:xfrm>
            <a:custGeom>
              <a:avLst/>
              <a:gdLst/>
              <a:ahLst/>
              <a:rect l="l" t="t" r="r" b="b"/>
              <a:pathLst>
                <a:path w="125" h="122">
                  <a:moveTo>
                    <a:pt x="0" y="4"/>
                  </a:moveTo>
                  <a:lnTo>
                    <a:pt x="19" y="0"/>
                  </a:lnTo>
                  <a:lnTo>
                    <a:pt x="39" y="0"/>
                  </a:lnTo>
                  <a:lnTo>
                    <a:pt x="57" y="5"/>
                  </a:lnTo>
                  <a:lnTo>
                    <a:pt x="76" y="13"/>
                  </a:lnTo>
                  <a:lnTo>
                    <a:pt x="91" y="26"/>
                  </a:lnTo>
                  <a:lnTo>
                    <a:pt x="104" y="42"/>
                  </a:lnTo>
                  <a:lnTo>
                    <a:pt x="115" y="59"/>
                  </a:lnTo>
                  <a:lnTo>
                    <a:pt x="121" y="80"/>
                  </a:lnTo>
                  <a:lnTo>
                    <a:pt x="125" y="101"/>
                  </a:lnTo>
                  <a:lnTo>
                    <a:pt x="124" y="12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57720" y="3254040"/>
              <a:ext cx="244440" cy="223920"/>
            </a:xfrm>
            <a:custGeom>
              <a:avLst/>
              <a:gdLst/>
              <a:ahLst/>
              <a:rect l="l" t="t" r="r" b="b"/>
              <a:pathLst>
                <a:path w="154" h="141">
                  <a:moveTo>
                    <a:pt x="0" y="27"/>
                  </a:moveTo>
                  <a:lnTo>
                    <a:pt x="14" y="14"/>
                  </a:lnTo>
                  <a:lnTo>
                    <a:pt x="31" y="5"/>
                  </a:lnTo>
                  <a:lnTo>
                    <a:pt x="51" y="0"/>
                  </a:lnTo>
                  <a:lnTo>
                    <a:pt x="70" y="0"/>
                  </a:lnTo>
                  <a:lnTo>
                    <a:pt x="91" y="5"/>
                  </a:lnTo>
                  <a:lnTo>
                    <a:pt x="110" y="16"/>
                  </a:lnTo>
                  <a:lnTo>
                    <a:pt x="127" y="29"/>
                  </a:lnTo>
                  <a:lnTo>
                    <a:pt x="140" y="46"/>
                  </a:lnTo>
                  <a:lnTo>
                    <a:pt x="149" y="65"/>
                  </a:lnTo>
                  <a:lnTo>
                    <a:pt x="154" y="85"/>
                  </a:lnTo>
                  <a:lnTo>
                    <a:pt x="153" y="106"/>
                  </a:lnTo>
                  <a:lnTo>
                    <a:pt x="147" y="124"/>
                  </a:lnTo>
                  <a:lnTo>
                    <a:pt x="138" y="141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00640" y="3063600"/>
              <a:ext cx="49320" cy="111240"/>
            </a:xfrm>
            <a:custGeom>
              <a:avLst/>
              <a:gdLst/>
              <a:ahLst/>
              <a:rect l="l" t="t" r="r" b="b"/>
              <a:pathLst>
                <a:path w="31" h="70">
                  <a:moveTo>
                    <a:pt x="0" y="0"/>
                  </a:moveTo>
                  <a:lnTo>
                    <a:pt x="12" y="4"/>
                  </a:lnTo>
                  <a:lnTo>
                    <a:pt x="21" y="12"/>
                  </a:lnTo>
                  <a:lnTo>
                    <a:pt x="27" y="22"/>
                  </a:lnTo>
                  <a:lnTo>
                    <a:pt x="31" y="35"/>
                  </a:lnTo>
                  <a:lnTo>
                    <a:pt x="31" y="48"/>
                  </a:lnTo>
                  <a:lnTo>
                    <a:pt x="27" y="60"/>
                  </a:lnTo>
                  <a:lnTo>
                    <a:pt x="20" y="7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80040" y="2981160"/>
              <a:ext cx="122400" cy="176040"/>
            </a:xfrm>
            <a:custGeom>
              <a:avLst/>
              <a:gdLst/>
              <a:ahLst/>
              <a:rect l="l" t="t" r="r" b="b"/>
              <a:pathLst>
                <a:path w="77" h="111">
                  <a:moveTo>
                    <a:pt x="7" y="17"/>
                  </a:moveTo>
                  <a:lnTo>
                    <a:pt x="16" y="9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50" y="1"/>
                  </a:lnTo>
                  <a:lnTo>
                    <a:pt x="60" y="6"/>
                  </a:lnTo>
                  <a:lnTo>
                    <a:pt x="69" y="14"/>
                  </a:lnTo>
                  <a:lnTo>
                    <a:pt x="75" y="26"/>
                  </a:lnTo>
                  <a:lnTo>
                    <a:pt x="77" y="39"/>
                  </a:lnTo>
                  <a:lnTo>
                    <a:pt x="76" y="52"/>
                  </a:lnTo>
                  <a:lnTo>
                    <a:pt x="52" y="50"/>
                  </a:lnTo>
                  <a:lnTo>
                    <a:pt x="29" y="53"/>
                  </a:lnTo>
                  <a:lnTo>
                    <a:pt x="21" y="56"/>
                  </a:lnTo>
                  <a:lnTo>
                    <a:pt x="13" y="62"/>
                  </a:lnTo>
                  <a:lnTo>
                    <a:pt x="7" y="71"/>
                  </a:lnTo>
                  <a:lnTo>
                    <a:pt x="3" y="83"/>
                  </a:lnTo>
                  <a:lnTo>
                    <a:pt x="0" y="96"/>
                  </a:lnTo>
                  <a:lnTo>
                    <a:pt x="0" y="111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92560" y="3157200"/>
              <a:ext cx="92160" cy="15264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5" y="0"/>
                  </a:moveTo>
                  <a:lnTo>
                    <a:pt x="58" y="18"/>
                  </a:lnTo>
                  <a:lnTo>
                    <a:pt x="58" y="36"/>
                  </a:lnTo>
                  <a:lnTo>
                    <a:pt x="57" y="54"/>
                  </a:lnTo>
                  <a:lnTo>
                    <a:pt x="51" y="70"/>
                  </a:lnTo>
                  <a:lnTo>
                    <a:pt x="46" y="83"/>
                  </a:lnTo>
                  <a:lnTo>
                    <a:pt x="37" y="92"/>
                  </a:lnTo>
                  <a:lnTo>
                    <a:pt x="28" y="96"/>
                  </a:lnTo>
                  <a:lnTo>
                    <a:pt x="17" y="96"/>
                  </a:lnTo>
                  <a:lnTo>
                    <a:pt x="7" y="91"/>
                  </a:lnTo>
                  <a:lnTo>
                    <a:pt x="0" y="8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70600" y="2890440"/>
              <a:ext cx="122040" cy="398520"/>
            </a:xfrm>
            <a:custGeom>
              <a:avLst/>
              <a:gdLst/>
              <a:ahLst/>
              <a:rect l="l" t="t" r="r" b="b"/>
              <a:pathLst>
                <a:path w="77" h="251">
                  <a:moveTo>
                    <a:pt x="54" y="0"/>
                  </a:moveTo>
                  <a:lnTo>
                    <a:pt x="61" y="6"/>
                  </a:lnTo>
                  <a:lnTo>
                    <a:pt x="69" y="13"/>
                  </a:lnTo>
                  <a:lnTo>
                    <a:pt x="74" y="26"/>
                  </a:lnTo>
                  <a:lnTo>
                    <a:pt x="77" y="41"/>
                  </a:lnTo>
                  <a:lnTo>
                    <a:pt x="77" y="57"/>
                  </a:lnTo>
                  <a:lnTo>
                    <a:pt x="76" y="72"/>
                  </a:lnTo>
                  <a:lnTo>
                    <a:pt x="72" y="88"/>
                  </a:lnTo>
                  <a:lnTo>
                    <a:pt x="65" y="101"/>
                  </a:lnTo>
                  <a:lnTo>
                    <a:pt x="57" y="110"/>
                  </a:lnTo>
                  <a:lnTo>
                    <a:pt x="48" y="117"/>
                  </a:lnTo>
                  <a:lnTo>
                    <a:pt x="40" y="118"/>
                  </a:lnTo>
                  <a:lnTo>
                    <a:pt x="26" y="124"/>
                  </a:lnTo>
                  <a:lnTo>
                    <a:pt x="16" y="134"/>
                  </a:lnTo>
                  <a:lnTo>
                    <a:pt x="7" y="147"/>
                  </a:lnTo>
                  <a:lnTo>
                    <a:pt x="3" y="164"/>
                  </a:lnTo>
                  <a:lnTo>
                    <a:pt x="0" y="182"/>
                  </a:lnTo>
                  <a:lnTo>
                    <a:pt x="1" y="204"/>
                  </a:lnTo>
                  <a:lnTo>
                    <a:pt x="7" y="226"/>
                  </a:lnTo>
                  <a:lnTo>
                    <a:pt x="14" y="251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15000" y="296532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9"/>
                  </a:moveTo>
                  <a:lnTo>
                    <a:pt x="7" y="16"/>
                  </a:lnTo>
                  <a:lnTo>
                    <a:pt x="17" y="6"/>
                  </a:lnTo>
                  <a:lnTo>
                    <a:pt x="30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77000" y="304632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6" y="32"/>
                  </a:moveTo>
                  <a:lnTo>
                    <a:pt x="28" y="23"/>
                  </a:lnTo>
                  <a:lnTo>
                    <a:pt x="24" y="12"/>
                  </a:lnTo>
                  <a:lnTo>
                    <a:pt x="17" y="4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2520" y="2820600"/>
              <a:ext cx="147600" cy="235080"/>
            </a:xfrm>
            <a:custGeom>
              <a:avLst/>
              <a:gdLst/>
              <a:ahLst/>
              <a:rect l="l" t="t" r="r" b="b"/>
              <a:pathLst>
                <a:path w="93" h="148">
                  <a:moveTo>
                    <a:pt x="2" y="125"/>
                  </a:moveTo>
                  <a:lnTo>
                    <a:pt x="0" y="103"/>
                  </a:lnTo>
                  <a:lnTo>
                    <a:pt x="2" y="80"/>
                  </a:lnTo>
                  <a:lnTo>
                    <a:pt x="8" y="57"/>
                  </a:lnTo>
                  <a:lnTo>
                    <a:pt x="16" y="38"/>
                  </a:lnTo>
                  <a:lnTo>
                    <a:pt x="29" y="20"/>
                  </a:lnTo>
                  <a:lnTo>
                    <a:pt x="43" y="3"/>
                  </a:lnTo>
                  <a:lnTo>
                    <a:pt x="55" y="0"/>
                  </a:lnTo>
                  <a:lnTo>
                    <a:pt x="67" y="3"/>
                  </a:lnTo>
                  <a:lnTo>
                    <a:pt x="79" y="8"/>
                  </a:lnTo>
                  <a:lnTo>
                    <a:pt x="87" y="18"/>
                  </a:lnTo>
                  <a:lnTo>
                    <a:pt x="92" y="31"/>
                  </a:lnTo>
                  <a:lnTo>
                    <a:pt x="92" y="44"/>
                  </a:lnTo>
                  <a:lnTo>
                    <a:pt x="93" y="70"/>
                  </a:lnTo>
                  <a:lnTo>
                    <a:pt x="89" y="95"/>
                  </a:lnTo>
                  <a:lnTo>
                    <a:pt x="83" y="120"/>
                  </a:lnTo>
                  <a:lnTo>
                    <a:pt x="72" y="142"/>
                  </a:lnTo>
                  <a:lnTo>
                    <a:pt x="15" y="14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29160" y="2930400"/>
              <a:ext cx="209520" cy="61920"/>
            </a:xfrm>
            <a:custGeom>
              <a:avLst/>
              <a:gdLst/>
              <a:ahLst/>
              <a:rect l="l" t="t" r="r" b="b"/>
              <a:pathLst>
                <a:path w="132" h="39">
                  <a:moveTo>
                    <a:pt x="0" y="18"/>
                  </a:moveTo>
                  <a:lnTo>
                    <a:pt x="13" y="26"/>
                  </a:lnTo>
                  <a:lnTo>
                    <a:pt x="27" y="29"/>
                  </a:lnTo>
                  <a:lnTo>
                    <a:pt x="43" y="29"/>
                  </a:lnTo>
                  <a:lnTo>
                    <a:pt x="58" y="24"/>
                  </a:lnTo>
                  <a:lnTo>
                    <a:pt x="69" y="15"/>
                  </a:lnTo>
                  <a:lnTo>
                    <a:pt x="78" y="5"/>
                  </a:lnTo>
                  <a:lnTo>
                    <a:pt x="90" y="0"/>
                  </a:lnTo>
                  <a:lnTo>
                    <a:pt x="103" y="0"/>
                  </a:lnTo>
                  <a:lnTo>
                    <a:pt x="114" y="5"/>
                  </a:lnTo>
                  <a:lnTo>
                    <a:pt x="124" y="13"/>
                  </a:lnTo>
                  <a:lnTo>
                    <a:pt x="129" y="26"/>
                  </a:lnTo>
                  <a:lnTo>
                    <a:pt x="132" y="3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56240" y="2944440"/>
              <a:ext cx="63360" cy="12888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23" y="81"/>
                  </a:moveTo>
                  <a:lnTo>
                    <a:pt x="11" y="73"/>
                  </a:lnTo>
                  <a:lnTo>
                    <a:pt x="4" y="62"/>
                  </a:lnTo>
                  <a:lnTo>
                    <a:pt x="0" y="47"/>
                  </a:lnTo>
                  <a:lnTo>
                    <a:pt x="1" y="33"/>
                  </a:lnTo>
                  <a:lnTo>
                    <a:pt x="6" y="20"/>
                  </a:lnTo>
                  <a:lnTo>
                    <a:pt x="15" y="9"/>
                  </a:lnTo>
                  <a:lnTo>
                    <a:pt x="27" y="3"/>
                  </a:lnTo>
                  <a:lnTo>
                    <a:pt x="40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37080" y="2974680"/>
              <a:ext cx="44640" cy="8424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8" y="53"/>
                  </a:moveTo>
                  <a:lnTo>
                    <a:pt x="19" y="52"/>
                  </a:lnTo>
                  <a:lnTo>
                    <a:pt x="9" y="47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3" y="7"/>
                  </a:lnTo>
                  <a:lnTo>
                    <a:pt x="9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38680" y="2800080"/>
              <a:ext cx="411120" cy="385920"/>
            </a:xfrm>
            <a:custGeom>
              <a:avLst/>
              <a:gdLst/>
              <a:ahLst/>
              <a:rect l="l" t="t" r="r" b="b"/>
              <a:pathLst>
                <a:path w="259" h="243">
                  <a:moveTo>
                    <a:pt x="259" y="55"/>
                  </a:moveTo>
                  <a:lnTo>
                    <a:pt x="244" y="51"/>
                  </a:lnTo>
                  <a:lnTo>
                    <a:pt x="229" y="52"/>
                  </a:lnTo>
                  <a:lnTo>
                    <a:pt x="216" y="57"/>
                  </a:lnTo>
                  <a:lnTo>
                    <a:pt x="202" y="67"/>
                  </a:lnTo>
                  <a:lnTo>
                    <a:pt x="193" y="78"/>
                  </a:lnTo>
                  <a:lnTo>
                    <a:pt x="187" y="93"/>
                  </a:lnTo>
                  <a:lnTo>
                    <a:pt x="183" y="110"/>
                  </a:lnTo>
                  <a:lnTo>
                    <a:pt x="199" y="120"/>
                  </a:lnTo>
                  <a:lnTo>
                    <a:pt x="209" y="134"/>
                  </a:lnTo>
                  <a:lnTo>
                    <a:pt x="216" y="150"/>
                  </a:lnTo>
                  <a:lnTo>
                    <a:pt x="218" y="168"/>
                  </a:lnTo>
                  <a:lnTo>
                    <a:pt x="214" y="187"/>
                  </a:lnTo>
                  <a:lnTo>
                    <a:pt x="206" y="204"/>
                  </a:lnTo>
                  <a:lnTo>
                    <a:pt x="195" y="218"/>
                  </a:lnTo>
                  <a:lnTo>
                    <a:pt x="178" y="231"/>
                  </a:lnTo>
                  <a:lnTo>
                    <a:pt x="159" y="239"/>
                  </a:lnTo>
                  <a:lnTo>
                    <a:pt x="140" y="243"/>
                  </a:lnTo>
                  <a:lnTo>
                    <a:pt x="120" y="242"/>
                  </a:lnTo>
                  <a:lnTo>
                    <a:pt x="102" y="238"/>
                  </a:lnTo>
                  <a:lnTo>
                    <a:pt x="85" y="227"/>
                  </a:lnTo>
                  <a:lnTo>
                    <a:pt x="56" y="209"/>
                  </a:lnTo>
                  <a:lnTo>
                    <a:pt x="26" y="193"/>
                  </a:lnTo>
                  <a:lnTo>
                    <a:pt x="21" y="170"/>
                  </a:lnTo>
                  <a:lnTo>
                    <a:pt x="20" y="146"/>
                  </a:lnTo>
                  <a:lnTo>
                    <a:pt x="21" y="128"/>
                  </a:lnTo>
                  <a:lnTo>
                    <a:pt x="25" y="111"/>
                  </a:lnTo>
                  <a:lnTo>
                    <a:pt x="33" y="95"/>
                  </a:lnTo>
                  <a:lnTo>
                    <a:pt x="44" y="82"/>
                  </a:lnTo>
                  <a:lnTo>
                    <a:pt x="57" y="72"/>
                  </a:lnTo>
                  <a:lnTo>
                    <a:pt x="73" y="65"/>
                  </a:lnTo>
                  <a:lnTo>
                    <a:pt x="76" y="51"/>
                  </a:lnTo>
                  <a:lnTo>
                    <a:pt x="74" y="35"/>
                  </a:lnTo>
                  <a:lnTo>
                    <a:pt x="69" y="22"/>
                  </a:lnTo>
                  <a:lnTo>
                    <a:pt x="60" y="10"/>
                  </a:lnTo>
                  <a:lnTo>
                    <a:pt x="48" y="4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9" y="8"/>
                  </a:lnTo>
                  <a:lnTo>
                    <a:pt x="0" y="1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05320" y="2806560"/>
              <a:ext cx="266760" cy="90360"/>
            </a:xfrm>
            <a:custGeom>
              <a:avLst/>
              <a:gdLst/>
              <a:ahLst/>
              <a:rect l="l" t="t" r="r" b="b"/>
              <a:pathLst>
                <a:path w="168" h="57">
                  <a:moveTo>
                    <a:pt x="0" y="57"/>
                  </a:moveTo>
                  <a:lnTo>
                    <a:pt x="19" y="38"/>
                  </a:lnTo>
                  <a:lnTo>
                    <a:pt x="41" y="21"/>
                  </a:lnTo>
                  <a:lnTo>
                    <a:pt x="65" y="9"/>
                  </a:lnTo>
                  <a:lnTo>
                    <a:pt x="91" y="2"/>
                  </a:lnTo>
                  <a:lnTo>
                    <a:pt x="117" y="0"/>
                  </a:lnTo>
                  <a:lnTo>
                    <a:pt x="143" y="1"/>
                  </a:lnTo>
                  <a:lnTo>
                    <a:pt x="168" y="8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81720" y="2852640"/>
              <a:ext cx="212400" cy="58680"/>
            </a:xfrm>
            <a:custGeom>
              <a:avLst/>
              <a:gdLst/>
              <a:ahLst/>
              <a:rect l="l" t="t" r="r" b="b"/>
              <a:pathLst>
                <a:path w="134" h="37">
                  <a:moveTo>
                    <a:pt x="0" y="2"/>
                  </a:moveTo>
                  <a:lnTo>
                    <a:pt x="17" y="0"/>
                  </a:lnTo>
                  <a:lnTo>
                    <a:pt x="34" y="1"/>
                  </a:lnTo>
                  <a:lnTo>
                    <a:pt x="49" y="6"/>
                  </a:lnTo>
                  <a:lnTo>
                    <a:pt x="64" y="17"/>
                  </a:lnTo>
                  <a:lnTo>
                    <a:pt x="77" y="30"/>
                  </a:lnTo>
                  <a:lnTo>
                    <a:pt x="87" y="35"/>
                  </a:lnTo>
                  <a:lnTo>
                    <a:pt x="99" y="37"/>
                  </a:lnTo>
                  <a:lnTo>
                    <a:pt x="111" y="34"/>
                  </a:lnTo>
                  <a:lnTo>
                    <a:pt x="121" y="27"/>
                  </a:lnTo>
                  <a:lnTo>
                    <a:pt x="129" y="18"/>
                  </a:lnTo>
                  <a:lnTo>
                    <a:pt x="134" y="5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75160" y="2852640"/>
              <a:ext cx="139680" cy="8244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0" y="52"/>
                  </a:moveTo>
                  <a:lnTo>
                    <a:pt x="25" y="45"/>
                  </a:lnTo>
                  <a:lnTo>
                    <a:pt x="48" y="35"/>
                  </a:lnTo>
                  <a:lnTo>
                    <a:pt x="69" y="19"/>
                  </a:lnTo>
                  <a:lnTo>
                    <a:pt x="88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86320" y="2920680"/>
              <a:ext cx="4140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0" y="51"/>
                  </a:moveTo>
                  <a:lnTo>
                    <a:pt x="5" y="31"/>
                  </a:lnTo>
                  <a:lnTo>
                    <a:pt x="14" y="14"/>
                  </a:lnTo>
                  <a:lnTo>
                    <a:pt x="26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07040" y="2938320"/>
              <a:ext cx="79200" cy="5076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50" y="0"/>
                  </a:moveTo>
                  <a:lnTo>
                    <a:pt x="50" y="11"/>
                  </a:lnTo>
                  <a:lnTo>
                    <a:pt x="46" y="21"/>
                  </a:lnTo>
                  <a:lnTo>
                    <a:pt x="38" y="28"/>
                  </a:lnTo>
                  <a:lnTo>
                    <a:pt x="29" y="32"/>
                  </a:lnTo>
                  <a:lnTo>
                    <a:pt x="19" y="30"/>
                  </a:lnTo>
                  <a:lnTo>
                    <a:pt x="9" y="27"/>
                  </a:lnTo>
                  <a:lnTo>
                    <a:pt x="3" y="17"/>
                  </a:lnTo>
                  <a:lnTo>
                    <a:pt x="0" y="7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53120" y="2895480"/>
              <a:ext cx="96840" cy="33660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0" y="5"/>
                  </a:moveTo>
                  <a:lnTo>
                    <a:pt x="12" y="1"/>
                  </a:lnTo>
                  <a:lnTo>
                    <a:pt x="25" y="0"/>
                  </a:lnTo>
                  <a:lnTo>
                    <a:pt x="37" y="4"/>
                  </a:lnTo>
                  <a:lnTo>
                    <a:pt x="47" y="10"/>
                  </a:lnTo>
                  <a:lnTo>
                    <a:pt x="56" y="20"/>
                  </a:lnTo>
                  <a:lnTo>
                    <a:pt x="60" y="30"/>
                  </a:lnTo>
                  <a:lnTo>
                    <a:pt x="61" y="42"/>
                  </a:lnTo>
                  <a:lnTo>
                    <a:pt x="57" y="52"/>
                  </a:lnTo>
                  <a:lnTo>
                    <a:pt x="50" y="61"/>
                  </a:lnTo>
                  <a:lnTo>
                    <a:pt x="34" y="78"/>
                  </a:lnTo>
                  <a:lnTo>
                    <a:pt x="22" y="99"/>
                  </a:lnTo>
                  <a:lnTo>
                    <a:pt x="13" y="123"/>
                  </a:lnTo>
                  <a:lnTo>
                    <a:pt x="8" y="146"/>
                  </a:lnTo>
                  <a:lnTo>
                    <a:pt x="8" y="171"/>
                  </a:lnTo>
                  <a:lnTo>
                    <a:pt x="10" y="185"/>
                  </a:lnTo>
                  <a:lnTo>
                    <a:pt x="16" y="199"/>
                  </a:lnTo>
                  <a:lnTo>
                    <a:pt x="21" y="212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35400" y="3001680"/>
              <a:ext cx="150840" cy="1112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5" y="70"/>
                  </a:moveTo>
                  <a:lnTo>
                    <a:pt x="1" y="57"/>
                  </a:lnTo>
                  <a:lnTo>
                    <a:pt x="0" y="43"/>
                  </a:lnTo>
                  <a:lnTo>
                    <a:pt x="3" y="28"/>
                  </a:lnTo>
                  <a:lnTo>
                    <a:pt x="10" y="15"/>
                  </a:lnTo>
                  <a:lnTo>
                    <a:pt x="19" y="6"/>
                  </a:lnTo>
                  <a:lnTo>
                    <a:pt x="31" y="0"/>
                  </a:lnTo>
                  <a:lnTo>
                    <a:pt x="34" y="13"/>
                  </a:lnTo>
                  <a:lnTo>
                    <a:pt x="40" y="24"/>
                  </a:lnTo>
                  <a:lnTo>
                    <a:pt x="49" y="34"/>
                  </a:lnTo>
                  <a:lnTo>
                    <a:pt x="61" y="39"/>
                  </a:lnTo>
                  <a:lnTo>
                    <a:pt x="73" y="40"/>
                  </a:lnTo>
                  <a:lnTo>
                    <a:pt x="84" y="37"/>
                  </a:lnTo>
                  <a:lnTo>
                    <a:pt x="95" y="31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57720" y="3127320"/>
              <a:ext cx="10800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25"/>
                  </a:moveTo>
                  <a:lnTo>
                    <a:pt x="9" y="21"/>
                  </a:lnTo>
                  <a:lnTo>
                    <a:pt x="20" y="20"/>
                  </a:lnTo>
                  <a:lnTo>
                    <a:pt x="29" y="24"/>
                  </a:lnTo>
                  <a:lnTo>
                    <a:pt x="35" y="32"/>
                  </a:lnTo>
                  <a:lnTo>
                    <a:pt x="39" y="42"/>
                  </a:lnTo>
                  <a:lnTo>
                    <a:pt x="50" y="42"/>
                  </a:lnTo>
                  <a:lnTo>
                    <a:pt x="59" y="38"/>
                  </a:lnTo>
                  <a:lnTo>
                    <a:pt x="65" y="30"/>
                  </a:lnTo>
                  <a:lnTo>
                    <a:pt x="68" y="20"/>
                  </a:lnTo>
                  <a:lnTo>
                    <a:pt x="67" y="9"/>
                  </a:lnTo>
                  <a:lnTo>
                    <a:pt x="63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05160" y="3106440"/>
              <a:ext cx="114480" cy="217440"/>
            </a:xfrm>
            <a:custGeom>
              <a:avLst/>
              <a:gdLst/>
              <a:ahLst/>
              <a:rect l="l" t="t" r="r" b="b"/>
              <a:pathLst>
                <a:path w="72" h="137">
                  <a:moveTo>
                    <a:pt x="72" y="4"/>
                  </a:moveTo>
                  <a:lnTo>
                    <a:pt x="56" y="0"/>
                  </a:lnTo>
                  <a:lnTo>
                    <a:pt x="41" y="0"/>
                  </a:lnTo>
                  <a:lnTo>
                    <a:pt x="26" y="4"/>
                  </a:lnTo>
                  <a:lnTo>
                    <a:pt x="13" y="12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5" y="63"/>
                  </a:lnTo>
                  <a:lnTo>
                    <a:pt x="15" y="75"/>
                  </a:lnTo>
                  <a:lnTo>
                    <a:pt x="28" y="84"/>
                  </a:lnTo>
                  <a:lnTo>
                    <a:pt x="43" y="89"/>
                  </a:lnTo>
                  <a:lnTo>
                    <a:pt x="59" y="90"/>
                  </a:lnTo>
                  <a:lnTo>
                    <a:pt x="47" y="93"/>
                  </a:lnTo>
                  <a:lnTo>
                    <a:pt x="37" y="100"/>
                  </a:lnTo>
                  <a:lnTo>
                    <a:pt x="29" y="110"/>
                  </a:lnTo>
                  <a:lnTo>
                    <a:pt x="25" y="123"/>
                  </a:lnTo>
                  <a:lnTo>
                    <a:pt x="24" y="137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54560" y="3228840"/>
              <a:ext cx="60480" cy="10152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0" y="64"/>
                  </a:moveTo>
                  <a:lnTo>
                    <a:pt x="0" y="47"/>
                  </a:lnTo>
                  <a:lnTo>
                    <a:pt x="3" y="29"/>
                  </a:lnTo>
                  <a:lnTo>
                    <a:pt x="11" y="13"/>
                  </a:lnTo>
                  <a:lnTo>
                    <a:pt x="20" y="0"/>
                  </a:lnTo>
                  <a:lnTo>
                    <a:pt x="19" y="17"/>
                  </a:lnTo>
                  <a:lnTo>
                    <a:pt x="21" y="34"/>
                  </a:lnTo>
                  <a:lnTo>
                    <a:pt x="28" y="50"/>
                  </a:lnTo>
                  <a:lnTo>
                    <a:pt x="38" y="63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89400" y="3292200"/>
              <a:ext cx="185760" cy="109440"/>
            </a:xfrm>
            <a:custGeom>
              <a:avLst/>
              <a:gdLst/>
              <a:ahLst/>
              <a:rect l="l" t="t" r="r" b="b"/>
              <a:pathLst>
                <a:path w="117" h="69">
                  <a:moveTo>
                    <a:pt x="117" y="58"/>
                  </a:moveTo>
                  <a:lnTo>
                    <a:pt x="105" y="66"/>
                  </a:lnTo>
                  <a:lnTo>
                    <a:pt x="91" y="69"/>
                  </a:lnTo>
                  <a:lnTo>
                    <a:pt x="78" y="66"/>
                  </a:lnTo>
                  <a:lnTo>
                    <a:pt x="65" y="61"/>
                  </a:lnTo>
                  <a:lnTo>
                    <a:pt x="54" y="50"/>
                  </a:lnTo>
                  <a:lnTo>
                    <a:pt x="48" y="36"/>
                  </a:lnTo>
                  <a:lnTo>
                    <a:pt x="40" y="22"/>
                  </a:lnTo>
                  <a:lnTo>
                    <a:pt x="28" y="11"/>
                  </a:lnTo>
                  <a:lnTo>
                    <a:pt x="15" y="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76600" y="3362040"/>
              <a:ext cx="1620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6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3" y="25"/>
                  </a:lnTo>
                  <a:lnTo>
                    <a:pt x="10" y="29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48160" y="3207960"/>
              <a:ext cx="214200" cy="155880"/>
            </a:xfrm>
            <a:custGeom>
              <a:avLst/>
              <a:gdLst/>
              <a:ahLst/>
              <a:rect l="l" t="t" r="r" b="b"/>
              <a:pathLst>
                <a:path w="135" h="98">
                  <a:moveTo>
                    <a:pt x="56" y="98"/>
                  </a:moveTo>
                  <a:lnTo>
                    <a:pt x="51" y="90"/>
                  </a:lnTo>
                  <a:lnTo>
                    <a:pt x="43" y="83"/>
                  </a:lnTo>
                  <a:lnTo>
                    <a:pt x="33" y="75"/>
                  </a:lnTo>
                  <a:lnTo>
                    <a:pt x="18" y="66"/>
                  </a:lnTo>
                  <a:lnTo>
                    <a:pt x="8" y="58"/>
                  </a:lnTo>
                  <a:lnTo>
                    <a:pt x="1" y="50"/>
                  </a:lnTo>
                  <a:lnTo>
                    <a:pt x="0" y="39"/>
                  </a:lnTo>
                  <a:lnTo>
                    <a:pt x="3" y="30"/>
                  </a:lnTo>
                  <a:lnTo>
                    <a:pt x="11" y="22"/>
                  </a:lnTo>
                  <a:lnTo>
                    <a:pt x="22" y="15"/>
                  </a:lnTo>
                  <a:lnTo>
                    <a:pt x="38" y="8"/>
                  </a:lnTo>
                  <a:lnTo>
                    <a:pt x="55" y="4"/>
                  </a:lnTo>
                  <a:lnTo>
                    <a:pt x="76" y="2"/>
                  </a:lnTo>
                  <a:lnTo>
                    <a:pt x="95" y="0"/>
                  </a:lnTo>
                  <a:lnTo>
                    <a:pt x="116" y="2"/>
                  </a:lnTo>
                  <a:lnTo>
                    <a:pt x="135" y="5"/>
                  </a:lnTo>
                  <a:lnTo>
                    <a:pt x="118" y="8"/>
                  </a:lnTo>
                  <a:lnTo>
                    <a:pt x="99" y="16"/>
                  </a:lnTo>
                  <a:lnTo>
                    <a:pt x="85" y="26"/>
                  </a:lnTo>
                  <a:lnTo>
                    <a:pt x="72" y="42"/>
                  </a:lnTo>
                  <a:lnTo>
                    <a:pt x="63" y="59"/>
                  </a:lnTo>
                  <a:lnTo>
                    <a:pt x="58" y="79"/>
                  </a:lnTo>
                  <a:lnTo>
                    <a:pt x="56" y="9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11800" y="3147840"/>
              <a:ext cx="525240" cy="852480"/>
            </a:xfrm>
            <a:custGeom>
              <a:avLst/>
              <a:gdLst/>
              <a:ahLst/>
              <a:rect l="l" t="t" r="r" b="b"/>
              <a:pathLst>
                <a:path w="331" h="537">
                  <a:moveTo>
                    <a:pt x="79" y="135"/>
                  </a:moveTo>
                  <a:lnTo>
                    <a:pt x="79" y="136"/>
                  </a:lnTo>
                  <a:lnTo>
                    <a:pt x="74" y="128"/>
                  </a:lnTo>
                  <a:lnTo>
                    <a:pt x="66" y="121"/>
                  </a:lnTo>
                  <a:lnTo>
                    <a:pt x="56" y="113"/>
                  </a:lnTo>
                  <a:lnTo>
                    <a:pt x="41" y="105"/>
                  </a:lnTo>
                  <a:lnTo>
                    <a:pt x="31" y="97"/>
                  </a:lnTo>
                  <a:lnTo>
                    <a:pt x="24" y="88"/>
                  </a:lnTo>
                  <a:lnTo>
                    <a:pt x="23" y="79"/>
                  </a:lnTo>
                  <a:lnTo>
                    <a:pt x="26" y="70"/>
                  </a:lnTo>
                  <a:lnTo>
                    <a:pt x="34" y="60"/>
                  </a:lnTo>
                  <a:lnTo>
                    <a:pt x="44" y="53"/>
                  </a:lnTo>
                  <a:lnTo>
                    <a:pt x="60" y="47"/>
                  </a:lnTo>
                  <a:lnTo>
                    <a:pt x="77" y="42"/>
                  </a:lnTo>
                  <a:lnTo>
                    <a:pt x="96" y="40"/>
                  </a:lnTo>
                  <a:lnTo>
                    <a:pt x="117" y="38"/>
                  </a:lnTo>
                  <a:lnTo>
                    <a:pt x="137" y="40"/>
                  </a:lnTo>
                  <a:lnTo>
                    <a:pt x="156" y="43"/>
                  </a:lnTo>
                  <a:lnTo>
                    <a:pt x="177" y="49"/>
                  </a:lnTo>
                  <a:lnTo>
                    <a:pt x="198" y="57"/>
                  </a:lnTo>
                  <a:lnTo>
                    <a:pt x="218" y="68"/>
                  </a:lnTo>
                  <a:lnTo>
                    <a:pt x="236" y="83"/>
                  </a:lnTo>
                  <a:lnTo>
                    <a:pt x="250" y="100"/>
                  </a:lnTo>
                  <a:lnTo>
                    <a:pt x="261" y="117"/>
                  </a:lnTo>
                  <a:lnTo>
                    <a:pt x="267" y="134"/>
                  </a:lnTo>
                  <a:lnTo>
                    <a:pt x="271" y="148"/>
                  </a:lnTo>
                  <a:lnTo>
                    <a:pt x="278" y="161"/>
                  </a:lnTo>
                  <a:lnTo>
                    <a:pt x="287" y="169"/>
                  </a:lnTo>
                  <a:lnTo>
                    <a:pt x="297" y="174"/>
                  </a:lnTo>
                  <a:lnTo>
                    <a:pt x="307" y="174"/>
                  </a:lnTo>
                  <a:lnTo>
                    <a:pt x="316" y="170"/>
                  </a:lnTo>
                  <a:lnTo>
                    <a:pt x="324" y="162"/>
                  </a:lnTo>
                  <a:lnTo>
                    <a:pt x="329" y="151"/>
                  </a:lnTo>
                  <a:lnTo>
                    <a:pt x="331" y="136"/>
                  </a:lnTo>
                  <a:lnTo>
                    <a:pt x="331" y="130"/>
                  </a:lnTo>
                  <a:lnTo>
                    <a:pt x="313" y="102"/>
                  </a:lnTo>
                  <a:lnTo>
                    <a:pt x="293" y="77"/>
                  </a:lnTo>
                  <a:lnTo>
                    <a:pt x="271" y="55"/>
                  </a:lnTo>
                  <a:lnTo>
                    <a:pt x="245" y="36"/>
                  </a:lnTo>
                  <a:lnTo>
                    <a:pt x="219" y="21"/>
                  </a:lnTo>
                  <a:lnTo>
                    <a:pt x="190" y="10"/>
                  </a:lnTo>
                  <a:lnTo>
                    <a:pt x="160" y="3"/>
                  </a:lnTo>
                  <a:lnTo>
                    <a:pt x="129" y="0"/>
                  </a:lnTo>
                  <a:lnTo>
                    <a:pt x="99" y="0"/>
                  </a:lnTo>
                  <a:lnTo>
                    <a:pt x="71" y="3"/>
                  </a:lnTo>
                  <a:lnTo>
                    <a:pt x="49" y="7"/>
                  </a:lnTo>
                  <a:lnTo>
                    <a:pt x="30" y="15"/>
                  </a:lnTo>
                  <a:lnTo>
                    <a:pt x="14" y="24"/>
                  </a:lnTo>
                  <a:lnTo>
                    <a:pt x="4" y="34"/>
                  </a:lnTo>
                  <a:lnTo>
                    <a:pt x="0" y="50"/>
                  </a:lnTo>
                  <a:lnTo>
                    <a:pt x="0" y="66"/>
                  </a:lnTo>
                  <a:lnTo>
                    <a:pt x="4" y="81"/>
                  </a:lnTo>
                  <a:lnTo>
                    <a:pt x="10" y="94"/>
                  </a:lnTo>
                  <a:lnTo>
                    <a:pt x="20" y="106"/>
                  </a:lnTo>
                  <a:lnTo>
                    <a:pt x="32" y="115"/>
                  </a:lnTo>
                  <a:lnTo>
                    <a:pt x="45" y="119"/>
                  </a:lnTo>
                  <a:lnTo>
                    <a:pt x="57" y="126"/>
                  </a:lnTo>
                  <a:lnTo>
                    <a:pt x="66" y="135"/>
                  </a:lnTo>
                  <a:lnTo>
                    <a:pt x="71" y="145"/>
                  </a:lnTo>
                  <a:lnTo>
                    <a:pt x="74" y="157"/>
                  </a:lnTo>
                  <a:lnTo>
                    <a:pt x="73" y="168"/>
                  </a:lnTo>
                  <a:lnTo>
                    <a:pt x="69" y="175"/>
                  </a:lnTo>
                  <a:lnTo>
                    <a:pt x="64" y="182"/>
                  </a:lnTo>
                  <a:lnTo>
                    <a:pt x="61" y="186"/>
                  </a:lnTo>
                  <a:lnTo>
                    <a:pt x="62" y="188"/>
                  </a:lnTo>
                  <a:lnTo>
                    <a:pt x="66" y="191"/>
                  </a:lnTo>
                  <a:lnTo>
                    <a:pt x="73" y="192"/>
                  </a:lnTo>
                  <a:lnTo>
                    <a:pt x="81" y="192"/>
                  </a:lnTo>
                  <a:lnTo>
                    <a:pt x="86" y="196"/>
                  </a:lnTo>
                  <a:lnTo>
                    <a:pt x="88" y="200"/>
                  </a:lnTo>
                  <a:lnTo>
                    <a:pt x="87" y="207"/>
                  </a:lnTo>
                  <a:lnTo>
                    <a:pt x="82" y="216"/>
                  </a:lnTo>
                  <a:lnTo>
                    <a:pt x="74" y="225"/>
                  </a:lnTo>
                  <a:lnTo>
                    <a:pt x="66" y="230"/>
                  </a:lnTo>
                  <a:lnTo>
                    <a:pt x="64" y="239"/>
                  </a:lnTo>
                  <a:lnTo>
                    <a:pt x="64" y="251"/>
                  </a:lnTo>
                  <a:lnTo>
                    <a:pt x="68" y="260"/>
                  </a:lnTo>
                  <a:lnTo>
                    <a:pt x="74" y="267"/>
                  </a:lnTo>
                  <a:lnTo>
                    <a:pt x="83" y="269"/>
                  </a:lnTo>
                  <a:lnTo>
                    <a:pt x="92" y="267"/>
                  </a:lnTo>
                  <a:lnTo>
                    <a:pt x="98" y="260"/>
                  </a:lnTo>
                  <a:lnTo>
                    <a:pt x="101" y="250"/>
                  </a:lnTo>
                  <a:lnTo>
                    <a:pt x="100" y="239"/>
                  </a:lnTo>
                  <a:lnTo>
                    <a:pt x="95" y="230"/>
                  </a:lnTo>
                  <a:lnTo>
                    <a:pt x="99" y="221"/>
                  </a:lnTo>
                  <a:lnTo>
                    <a:pt x="105" y="213"/>
                  </a:lnTo>
                  <a:lnTo>
                    <a:pt x="115" y="209"/>
                  </a:lnTo>
                  <a:lnTo>
                    <a:pt x="122" y="208"/>
                  </a:lnTo>
                  <a:lnTo>
                    <a:pt x="129" y="203"/>
                  </a:lnTo>
                  <a:lnTo>
                    <a:pt x="135" y="202"/>
                  </a:lnTo>
                  <a:lnTo>
                    <a:pt x="143" y="203"/>
                  </a:lnTo>
                  <a:lnTo>
                    <a:pt x="152" y="208"/>
                  </a:lnTo>
                  <a:lnTo>
                    <a:pt x="163" y="216"/>
                  </a:lnTo>
                  <a:lnTo>
                    <a:pt x="172" y="228"/>
                  </a:lnTo>
                  <a:lnTo>
                    <a:pt x="173" y="237"/>
                  </a:lnTo>
                  <a:lnTo>
                    <a:pt x="173" y="247"/>
                  </a:lnTo>
                  <a:lnTo>
                    <a:pt x="169" y="256"/>
                  </a:lnTo>
                  <a:lnTo>
                    <a:pt x="163" y="263"/>
                  </a:lnTo>
                  <a:lnTo>
                    <a:pt x="156" y="276"/>
                  </a:lnTo>
                  <a:lnTo>
                    <a:pt x="154" y="290"/>
                  </a:lnTo>
                  <a:lnTo>
                    <a:pt x="154" y="305"/>
                  </a:lnTo>
                  <a:lnTo>
                    <a:pt x="156" y="319"/>
                  </a:lnTo>
                  <a:lnTo>
                    <a:pt x="163" y="331"/>
                  </a:lnTo>
                  <a:lnTo>
                    <a:pt x="172" y="341"/>
                  </a:lnTo>
                  <a:lnTo>
                    <a:pt x="186" y="344"/>
                  </a:lnTo>
                  <a:lnTo>
                    <a:pt x="199" y="348"/>
                  </a:lnTo>
                  <a:lnTo>
                    <a:pt x="211" y="357"/>
                  </a:lnTo>
                  <a:lnTo>
                    <a:pt x="219" y="367"/>
                  </a:lnTo>
                  <a:lnTo>
                    <a:pt x="226" y="381"/>
                  </a:lnTo>
                  <a:lnTo>
                    <a:pt x="220" y="407"/>
                  </a:lnTo>
                  <a:lnTo>
                    <a:pt x="219" y="433"/>
                  </a:lnTo>
                  <a:lnTo>
                    <a:pt x="223" y="459"/>
                  </a:lnTo>
                  <a:lnTo>
                    <a:pt x="232" y="485"/>
                  </a:lnTo>
                  <a:lnTo>
                    <a:pt x="244" y="511"/>
                  </a:lnTo>
                  <a:lnTo>
                    <a:pt x="261" y="537"/>
                  </a:lnTo>
                  <a:lnTo>
                    <a:pt x="278" y="537"/>
                  </a:lnTo>
                  <a:lnTo>
                    <a:pt x="271" y="480"/>
                  </a:lnTo>
                  <a:lnTo>
                    <a:pt x="262" y="422"/>
                  </a:lnTo>
                  <a:lnTo>
                    <a:pt x="249" y="366"/>
                  </a:lnTo>
                  <a:lnTo>
                    <a:pt x="232" y="310"/>
                  </a:lnTo>
                  <a:lnTo>
                    <a:pt x="223" y="273"/>
                  </a:lnTo>
                  <a:lnTo>
                    <a:pt x="211" y="234"/>
                  </a:lnTo>
                  <a:lnTo>
                    <a:pt x="206" y="220"/>
                  </a:lnTo>
                  <a:lnTo>
                    <a:pt x="197" y="208"/>
                  </a:lnTo>
                  <a:lnTo>
                    <a:pt x="186" y="199"/>
                  </a:lnTo>
                  <a:lnTo>
                    <a:pt x="173" y="194"/>
                  </a:lnTo>
                  <a:lnTo>
                    <a:pt x="160" y="191"/>
                  </a:lnTo>
                  <a:lnTo>
                    <a:pt x="152" y="191"/>
                  </a:lnTo>
                  <a:lnTo>
                    <a:pt x="143" y="192"/>
                  </a:lnTo>
                  <a:lnTo>
                    <a:pt x="132" y="195"/>
                  </a:lnTo>
                  <a:lnTo>
                    <a:pt x="118" y="199"/>
                  </a:lnTo>
                  <a:lnTo>
                    <a:pt x="108" y="204"/>
                  </a:lnTo>
                  <a:lnTo>
                    <a:pt x="99" y="211"/>
                  </a:lnTo>
                  <a:lnTo>
                    <a:pt x="92" y="219"/>
                  </a:lnTo>
                  <a:lnTo>
                    <a:pt x="90" y="221"/>
                  </a:lnTo>
                  <a:lnTo>
                    <a:pt x="87" y="221"/>
                  </a:lnTo>
                  <a:lnTo>
                    <a:pt x="87" y="217"/>
                  </a:lnTo>
                  <a:lnTo>
                    <a:pt x="94" y="208"/>
                  </a:lnTo>
                  <a:lnTo>
                    <a:pt x="96" y="200"/>
                  </a:lnTo>
                  <a:lnTo>
                    <a:pt x="95" y="192"/>
                  </a:lnTo>
                  <a:lnTo>
                    <a:pt x="91" y="187"/>
                  </a:lnTo>
                  <a:lnTo>
                    <a:pt x="84" y="186"/>
                  </a:lnTo>
                  <a:lnTo>
                    <a:pt x="75" y="186"/>
                  </a:lnTo>
                  <a:lnTo>
                    <a:pt x="74" y="185"/>
                  </a:lnTo>
                  <a:lnTo>
                    <a:pt x="75" y="181"/>
                  </a:lnTo>
                  <a:lnTo>
                    <a:pt x="78" y="177"/>
                  </a:lnTo>
                  <a:lnTo>
                    <a:pt x="82" y="162"/>
                  </a:lnTo>
                  <a:lnTo>
                    <a:pt x="82" y="148"/>
                  </a:lnTo>
                  <a:lnTo>
                    <a:pt x="79" y="135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60840" y="3279600"/>
              <a:ext cx="274680" cy="82440"/>
            </a:xfrm>
            <a:custGeom>
              <a:avLst/>
              <a:gdLst/>
              <a:ahLst/>
              <a:rect l="l" t="t" r="r" b="b"/>
              <a:pathLst>
                <a:path w="173" h="52">
                  <a:moveTo>
                    <a:pt x="173" y="48"/>
                  </a:moveTo>
                  <a:lnTo>
                    <a:pt x="168" y="35"/>
                  </a:lnTo>
                  <a:lnTo>
                    <a:pt x="162" y="22"/>
                  </a:lnTo>
                  <a:lnTo>
                    <a:pt x="149" y="13"/>
                  </a:lnTo>
                  <a:lnTo>
                    <a:pt x="132" y="6"/>
                  </a:lnTo>
                  <a:lnTo>
                    <a:pt x="112" y="1"/>
                  </a:lnTo>
                  <a:lnTo>
                    <a:pt x="91" y="0"/>
                  </a:lnTo>
                  <a:lnTo>
                    <a:pt x="70" y="0"/>
                  </a:lnTo>
                  <a:lnTo>
                    <a:pt x="49" y="4"/>
                  </a:lnTo>
                  <a:lnTo>
                    <a:pt x="31" y="10"/>
                  </a:lnTo>
                  <a:lnTo>
                    <a:pt x="15" y="18"/>
                  </a:lnTo>
                  <a:lnTo>
                    <a:pt x="4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49"/>
                  </a:lnTo>
                  <a:lnTo>
                    <a:pt x="7" y="52"/>
                  </a:lnTo>
                  <a:lnTo>
                    <a:pt x="14" y="52"/>
                  </a:lnTo>
                  <a:lnTo>
                    <a:pt x="39" y="39"/>
                  </a:lnTo>
                  <a:lnTo>
                    <a:pt x="66" y="30"/>
                  </a:lnTo>
                  <a:lnTo>
                    <a:pt x="94" y="27"/>
                  </a:lnTo>
                  <a:lnTo>
                    <a:pt x="121" y="30"/>
                  </a:lnTo>
                  <a:lnTo>
                    <a:pt x="149" y="36"/>
                  </a:lnTo>
                  <a:lnTo>
                    <a:pt x="173" y="4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4680" y="3344760"/>
              <a:ext cx="55800" cy="29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0"/>
                  </a:moveTo>
                  <a:lnTo>
                    <a:pt x="3" y="4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34" y="7"/>
                  </a:lnTo>
                  <a:lnTo>
                    <a:pt x="35" y="12"/>
                  </a:lnTo>
                  <a:lnTo>
                    <a:pt x="25" y="16"/>
                  </a:lnTo>
                  <a:lnTo>
                    <a:pt x="14" y="19"/>
                  </a:lnTo>
                  <a:lnTo>
                    <a:pt x="5" y="17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57760" y="3395520"/>
              <a:ext cx="511200" cy="604800"/>
            </a:xfrm>
            <a:custGeom>
              <a:avLst/>
              <a:gdLst/>
              <a:ahLst/>
              <a:rect l="l" t="t" r="r" b="b"/>
              <a:pathLst>
                <a:path w="322" h="381">
                  <a:moveTo>
                    <a:pt x="62" y="8"/>
                  </a:moveTo>
                  <a:lnTo>
                    <a:pt x="45" y="2"/>
                  </a:lnTo>
                  <a:lnTo>
                    <a:pt x="31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30"/>
                  </a:lnTo>
                  <a:lnTo>
                    <a:pt x="0" y="46"/>
                  </a:lnTo>
                  <a:lnTo>
                    <a:pt x="4" y="64"/>
                  </a:lnTo>
                  <a:lnTo>
                    <a:pt x="10" y="85"/>
                  </a:lnTo>
                  <a:lnTo>
                    <a:pt x="15" y="100"/>
                  </a:lnTo>
                  <a:lnTo>
                    <a:pt x="23" y="116"/>
                  </a:lnTo>
                  <a:lnTo>
                    <a:pt x="36" y="128"/>
                  </a:lnTo>
                  <a:lnTo>
                    <a:pt x="51" y="136"/>
                  </a:lnTo>
                  <a:lnTo>
                    <a:pt x="68" y="140"/>
                  </a:lnTo>
                  <a:lnTo>
                    <a:pt x="85" y="140"/>
                  </a:lnTo>
                  <a:lnTo>
                    <a:pt x="69" y="142"/>
                  </a:lnTo>
                  <a:lnTo>
                    <a:pt x="57" y="144"/>
                  </a:lnTo>
                  <a:lnTo>
                    <a:pt x="48" y="147"/>
                  </a:lnTo>
                  <a:lnTo>
                    <a:pt x="43" y="150"/>
                  </a:lnTo>
                  <a:lnTo>
                    <a:pt x="39" y="155"/>
                  </a:lnTo>
                  <a:lnTo>
                    <a:pt x="39" y="164"/>
                  </a:lnTo>
                  <a:lnTo>
                    <a:pt x="40" y="178"/>
                  </a:lnTo>
                  <a:lnTo>
                    <a:pt x="45" y="192"/>
                  </a:lnTo>
                  <a:lnTo>
                    <a:pt x="52" y="209"/>
                  </a:lnTo>
                  <a:lnTo>
                    <a:pt x="62" y="251"/>
                  </a:lnTo>
                  <a:lnTo>
                    <a:pt x="72" y="294"/>
                  </a:lnTo>
                  <a:lnTo>
                    <a:pt x="75" y="338"/>
                  </a:lnTo>
                  <a:lnTo>
                    <a:pt x="78" y="381"/>
                  </a:lnTo>
                  <a:lnTo>
                    <a:pt x="91" y="381"/>
                  </a:lnTo>
                  <a:lnTo>
                    <a:pt x="90" y="332"/>
                  </a:lnTo>
                  <a:lnTo>
                    <a:pt x="85" y="283"/>
                  </a:lnTo>
                  <a:lnTo>
                    <a:pt x="75" y="235"/>
                  </a:lnTo>
                  <a:lnTo>
                    <a:pt x="70" y="215"/>
                  </a:lnTo>
                  <a:lnTo>
                    <a:pt x="62" y="198"/>
                  </a:lnTo>
                  <a:lnTo>
                    <a:pt x="59" y="188"/>
                  </a:lnTo>
                  <a:lnTo>
                    <a:pt x="55" y="179"/>
                  </a:lnTo>
                  <a:lnTo>
                    <a:pt x="53" y="170"/>
                  </a:lnTo>
                  <a:lnTo>
                    <a:pt x="53" y="163"/>
                  </a:lnTo>
                  <a:lnTo>
                    <a:pt x="56" y="158"/>
                  </a:lnTo>
                  <a:lnTo>
                    <a:pt x="65" y="154"/>
                  </a:lnTo>
                  <a:lnTo>
                    <a:pt x="77" y="151"/>
                  </a:lnTo>
                  <a:lnTo>
                    <a:pt x="94" y="149"/>
                  </a:lnTo>
                  <a:lnTo>
                    <a:pt x="113" y="147"/>
                  </a:lnTo>
                  <a:lnTo>
                    <a:pt x="106" y="162"/>
                  </a:lnTo>
                  <a:lnTo>
                    <a:pt x="100" y="178"/>
                  </a:lnTo>
                  <a:lnTo>
                    <a:pt x="99" y="196"/>
                  </a:lnTo>
                  <a:lnTo>
                    <a:pt x="102" y="213"/>
                  </a:lnTo>
                  <a:lnTo>
                    <a:pt x="109" y="227"/>
                  </a:lnTo>
                  <a:lnTo>
                    <a:pt x="119" y="242"/>
                  </a:lnTo>
                  <a:lnTo>
                    <a:pt x="132" y="251"/>
                  </a:lnTo>
                  <a:lnTo>
                    <a:pt x="147" y="256"/>
                  </a:lnTo>
                  <a:lnTo>
                    <a:pt x="163" y="257"/>
                  </a:lnTo>
                  <a:lnTo>
                    <a:pt x="181" y="268"/>
                  </a:lnTo>
                  <a:lnTo>
                    <a:pt x="201" y="272"/>
                  </a:lnTo>
                  <a:lnTo>
                    <a:pt x="220" y="272"/>
                  </a:lnTo>
                  <a:lnTo>
                    <a:pt x="240" y="266"/>
                  </a:lnTo>
                  <a:lnTo>
                    <a:pt x="258" y="257"/>
                  </a:lnTo>
                  <a:lnTo>
                    <a:pt x="274" y="243"/>
                  </a:lnTo>
                  <a:lnTo>
                    <a:pt x="286" y="226"/>
                  </a:lnTo>
                  <a:lnTo>
                    <a:pt x="300" y="209"/>
                  </a:lnTo>
                  <a:lnTo>
                    <a:pt x="312" y="189"/>
                  </a:lnTo>
                  <a:lnTo>
                    <a:pt x="320" y="168"/>
                  </a:lnTo>
                  <a:lnTo>
                    <a:pt x="322" y="145"/>
                  </a:lnTo>
                  <a:lnTo>
                    <a:pt x="322" y="123"/>
                  </a:lnTo>
                  <a:lnTo>
                    <a:pt x="317" y="99"/>
                  </a:lnTo>
                  <a:lnTo>
                    <a:pt x="308" y="78"/>
                  </a:lnTo>
                  <a:lnTo>
                    <a:pt x="296" y="60"/>
                  </a:lnTo>
                  <a:lnTo>
                    <a:pt x="281" y="44"/>
                  </a:lnTo>
                  <a:lnTo>
                    <a:pt x="262" y="32"/>
                  </a:lnTo>
                  <a:lnTo>
                    <a:pt x="243" y="25"/>
                  </a:lnTo>
                  <a:lnTo>
                    <a:pt x="222" y="22"/>
                  </a:lnTo>
                  <a:lnTo>
                    <a:pt x="207" y="10"/>
                  </a:lnTo>
                  <a:lnTo>
                    <a:pt x="190" y="4"/>
                  </a:lnTo>
                  <a:lnTo>
                    <a:pt x="172" y="0"/>
                  </a:lnTo>
                  <a:lnTo>
                    <a:pt x="154" y="1"/>
                  </a:lnTo>
                  <a:lnTo>
                    <a:pt x="136" y="5"/>
                  </a:lnTo>
                  <a:lnTo>
                    <a:pt x="120" y="13"/>
                  </a:lnTo>
                  <a:lnTo>
                    <a:pt x="99" y="16"/>
                  </a:lnTo>
                  <a:lnTo>
                    <a:pt x="82" y="22"/>
                  </a:lnTo>
                  <a:lnTo>
                    <a:pt x="68" y="30"/>
                  </a:lnTo>
                  <a:lnTo>
                    <a:pt x="57" y="39"/>
                  </a:lnTo>
                  <a:lnTo>
                    <a:pt x="49" y="51"/>
                  </a:lnTo>
                  <a:lnTo>
                    <a:pt x="47" y="65"/>
                  </a:lnTo>
                  <a:lnTo>
                    <a:pt x="48" y="80"/>
                  </a:lnTo>
                  <a:lnTo>
                    <a:pt x="53" y="94"/>
                  </a:lnTo>
                  <a:lnTo>
                    <a:pt x="52" y="102"/>
                  </a:lnTo>
                  <a:lnTo>
                    <a:pt x="55" y="110"/>
                  </a:lnTo>
                  <a:lnTo>
                    <a:pt x="62" y="116"/>
                  </a:lnTo>
                  <a:lnTo>
                    <a:pt x="73" y="120"/>
                  </a:lnTo>
                  <a:lnTo>
                    <a:pt x="86" y="123"/>
                  </a:lnTo>
                  <a:lnTo>
                    <a:pt x="98" y="123"/>
                  </a:lnTo>
                  <a:lnTo>
                    <a:pt x="109" y="120"/>
                  </a:lnTo>
                  <a:lnTo>
                    <a:pt x="96" y="127"/>
                  </a:lnTo>
                  <a:lnTo>
                    <a:pt x="82" y="130"/>
                  </a:lnTo>
                  <a:lnTo>
                    <a:pt x="68" y="129"/>
                  </a:lnTo>
                  <a:lnTo>
                    <a:pt x="53" y="125"/>
                  </a:lnTo>
                  <a:lnTo>
                    <a:pt x="42" y="119"/>
                  </a:lnTo>
                  <a:lnTo>
                    <a:pt x="34" y="110"/>
                  </a:lnTo>
                  <a:lnTo>
                    <a:pt x="30" y="98"/>
                  </a:lnTo>
                  <a:lnTo>
                    <a:pt x="30" y="86"/>
                  </a:lnTo>
                  <a:lnTo>
                    <a:pt x="35" y="77"/>
                  </a:lnTo>
                  <a:lnTo>
                    <a:pt x="38" y="65"/>
                  </a:lnTo>
                  <a:lnTo>
                    <a:pt x="38" y="52"/>
                  </a:lnTo>
                  <a:lnTo>
                    <a:pt x="32" y="42"/>
                  </a:lnTo>
                  <a:lnTo>
                    <a:pt x="26" y="32"/>
                  </a:lnTo>
                  <a:lnTo>
                    <a:pt x="15" y="27"/>
                  </a:lnTo>
                  <a:lnTo>
                    <a:pt x="19" y="17"/>
                  </a:lnTo>
                  <a:lnTo>
                    <a:pt x="25" y="12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5" y="14"/>
                  </a:lnTo>
                  <a:lnTo>
                    <a:pt x="56" y="18"/>
                  </a:lnTo>
                  <a:lnTo>
                    <a:pt x="60" y="18"/>
                  </a:lnTo>
                  <a:lnTo>
                    <a:pt x="65" y="16"/>
                  </a:lnTo>
                  <a:lnTo>
                    <a:pt x="68" y="12"/>
                  </a:lnTo>
                  <a:lnTo>
                    <a:pt x="66" y="8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86200" y="2666880"/>
              <a:ext cx="1638360" cy="1887480"/>
            </a:xfrm>
            <a:custGeom>
              <a:avLst/>
              <a:gdLst/>
              <a:ahLst/>
              <a:rect l="l" t="t" r="r" b="b"/>
              <a:pathLst>
                <a:path w="1032" h="1189">
                  <a:moveTo>
                    <a:pt x="489" y="1189"/>
                  </a:moveTo>
                  <a:lnTo>
                    <a:pt x="481" y="1153"/>
                  </a:lnTo>
                  <a:lnTo>
                    <a:pt x="469" y="1116"/>
                  </a:lnTo>
                  <a:lnTo>
                    <a:pt x="452" y="1083"/>
                  </a:lnTo>
                  <a:lnTo>
                    <a:pt x="431" y="1052"/>
                  </a:lnTo>
                  <a:lnTo>
                    <a:pt x="408" y="1023"/>
                  </a:lnTo>
                  <a:lnTo>
                    <a:pt x="379" y="997"/>
                  </a:lnTo>
                  <a:lnTo>
                    <a:pt x="349" y="976"/>
                  </a:lnTo>
                  <a:lnTo>
                    <a:pt x="316" y="958"/>
                  </a:lnTo>
                  <a:lnTo>
                    <a:pt x="281" y="945"/>
                  </a:lnTo>
                  <a:lnTo>
                    <a:pt x="244" y="936"/>
                  </a:lnTo>
                  <a:lnTo>
                    <a:pt x="206" y="932"/>
                  </a:lnTo>
                  <a:lnTo>
                    <a:pt x="197" y="932"/>
                  </a:lnTo>
                  <a:lnTo>
                    <a:pt x="178" y="928"/>
                  </a:lnTo>
                  <a:lnTo>
                    <a:pt x="159" y="920"/>
                  </a:lnTo>
                  <a:lnTo>
                    <a:pt x="144" y="908"/>
                  </a:lnTo>
                  <a:lnTo>
                    <a:pt x="131" y="894"/>
                  </a:lnTo>
                  <a:lnTo>
                    <a:pt x="122" y="877"/>
                  </a:lnTo>
                  <a:lnTo>
                    <a:pt x="118" y="857"/>
                  </a:lnTo>
                  <a:lnTo>
                    <a:pt x="116" y="838"/>
                  </a:lnTo>
                  <a:lnTo>
                    <a:pt x="126" y="827"/>
                  </a:lnTo>
                  <a:lnTo>
                    <a:pt x="131" y="813"/>
                  </a:lnTo>
                  <a:lnTo>
                    <a:pt x="132" y="799"/>
                  </a:lnTo>
                  <a:lnTo>
                    <a:pt x="129" y="785"/>
                  </a:lnTo>
                  <a:lnTo>
                    <a:pt x="122" y="772"/>
                  </a:lnTo>
                  <a:lnTo>
                    <a:pt x="111" y="763"/>
                  </a:lnTo>
                  <a:lnTo>
                    <a:pt x="98" y="757"/>
                  </a:lnTo>
                  <a:lnTo>
                    <a:pt x="98" y="667"/>
                  </a:lnTo>
                  <a:lnTo>
                    <a:pt x="77" y="668"/>
                  </a:lnTo>
                  <a:lnTo>
                    <a:pt x="56" y="665"/>
                  </a:lnTo>
                  <a:lnTo>
                    <a:pt x="35" y="659"/>
                  </a:lnTo>
                  <a:lnTo>
                    <a:pt x="17" y="648"/>
                  </a:lnTo>
                  <a:lnTo>
                    <a:pt x="0" y="637"/>
                  </a:lnTo>
                  <a:lnTo>
                    <a:pt x="129" y="443"/>
                  </a:lnTo>
                  <a:lnTo>
                    <a:pt x="127" y="379"/>
                  </a:lnTo>
                  <a:lnTo>
                    <a:pt x="129" y="315"/>
                  </a:lnTo>
                  <a:lnTo>
                    <a:pt x="139" y="275"/>
                  </a:lnTo>
                  <a:lnTo>
                    <a:pt x="154" y="235"/>
                  </a:lnTo>
                  <a:lnTo>
                    <a:pt x="173" y="198"/>
                  </a:lnTo>
                  <a:lnTo>
                    <a:pt x="195" y="161"/>
                  </a:lnTo>
                  <a:lnTo>
                    <a:pt x="222" y="128"/>
                  </a:lnTo>
                  <a:lnTo>
                    <a:pt x="252" y="100"/>
                  </a:lnTo>
                  <a:lnTo>
                    <a:pt x="285" y="73"/>
                  </a:lnTo>
                  <a:lnTo>
                    <a:pt x="321" y="51"/>
                  </a:lnTo>
                  <a:lnTo>
                    <a:pt x="359" y="33"/>
                  </a:lnTo>
                  <a:lnTo>
                    <a:pt x="400" y="19"/>
                  </a:lnTo>
                  <a:lnTo>
                    <a:pt x="400" y="9"/>
                  </a:lnTo>
                  <a:lnTo>
                    <a:pt x="457" y="3"/>
                  </a:lnTo>
                  <a:lnTo>
                    <a:pt x="515" y="0"/>
                  </a:lnTo>
                  <a:lnTo>
                    <a:pt x="572" y="3"/>
                  </a:lnTo>
                  <a:lnTo>
                    <a:pt x="630" y="9"/>
                  </a:lnTo>
                  <a:lnTo>
                    <a:pt x="687" y="21"/>
                  </a:lnTo>
                  <a:lnTo>
                    <a:pt x="742" y="38"/>
                  </a:lnTo>
                  <a:lnTo>
                    <a:pt x="797" y="58"/>
                  </a:lnTo>
                  <a:lnTo>
                    <a:pt x="849" y="83"/>
                  </a:lnTo>
                  <a:lnTo>
                    <a:pt x="886" y="113"/>
                  </a:lnTo>
                  <a:lnTo>
                    <a:pt x="920" y="147"/>
                  </a:lnTo>
                  <a:lnTo>
                    <a:pt x="950" y="184"/>
                  </a:lnTo>
                  <a:lnTo>
                    <a:pt x="975" y="224"/>
                  </a:lnTo>
                  <a:lnTo>
                    <a:pt x="995" y="267"/>
                  </a:lnTo>
                  <a:lnTo>
                    <a:pt x="1012" y="313"/>
                  </a:lnTo>
                  <a:lnTo>
                    <a:pt x="1023" y="358"/>
                  </a:lnTo>
                  <a:lnTo>
                    <a:pt x="1029" y="405"/>
                  </a:lnTo>
                  <a:lnTo>
                    <a:pt x="1032" y="447"/>
                  </a:lnTo>
                  <a:lnTo>
                    <a:pt x="1032" y="488"/>
                  </a:lnTo>
                  <a:lnTo>
                    <a:pt x="1027" y="528"/>
                  </a:lnTo>
                  <a:lnTo>
                    <a:pt x="1016" y="569"/>
                  </a:lnTo>
                  <a:lnTo>
                    <a:pt x="1003" y="608"/>
                  </a:lnTo>
                  <a:lnTo>
                    <a:pt x="985" y="644"/>
                  </a:lnTo>
                  <a:lnTo>
                    <a:pt x="964" y="680"/>
                  </a:lnTo>
                  <a:lnTo>
                    <a:pt x="939" y="712"/>
                  </a:lnTo>
                  <a:lnTo>
                    <a:pt x="920" y="749"/>
                  </a:lnTo>
                  <a:lnTo>
                    <a:pt x="904" y="788"/>
                  </a:lnTo>
                  <a:lnTo>
                    <a:pt x="891" y="827"/>
                  </a:lnTo>
                  <a:lnTo>
                    <a:pt x="882" y="868"/>
                  </a:lnTo>
                  <a:lnTo>
                    <a:pt x="877" y="910"/>
                  </a:lnTo>
                  <a:lnTo>
                    <a:pt x="877" y="972"/>
                  </a:lnTo>
                  <a:lnTo>
                    <a:pt x="873" y="1036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952880" y="1828800"/>
            <a:ext cx="1524240" cy="914400"/>
          </a:xfrm>
          <a:prstGeom prst="cloudCallout">
            <a:avLst>
              <a:gd name="adj1" fmla="val -32185"/>
              <a:gd name="adj2" fmla="val 10503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6120" y="29707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6960" y="297072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3120" y="17514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quar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15240" y="4814640"/>
            <a:ext cx="65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rgets vs non-tar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its, False Alarms, Good Misses, False Rej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so applies to internal (mental) represen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is item true?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fidence in perceived truth value of items va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5241960"/>
            <a:ext cx="7619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62120" y="1584360"/>
            <a:ext cx="0" cy="3657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74320" y="5607000"/>
            <a:ext cx="31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ce in truth value of i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-437400" y="33681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i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762120" y="3400560"/>
            <a:ext cx="3809160" cy="1841400"/>
            <a:chOff x="762120" y="3400560"/>
            <a:chExt cx="3809160" cy="1841400"/>
          </a:xfrm>
        </p:grpSpPr>
        <p:sp>
          <p:nvSpPr>
            <p:cNvPr id="537" name=""/>
            <p:cNvSpPr/>
            <p:nvPr/>
          </p:nvSpPr>
          <p:spPr>
            <a:xfrm>
              <a:off x="762120" y="3400560"/>
              <a:ext cx="190476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2666160" y="3400560"/>
              <a:ext cx="190476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495680" y="3400560"/>
            <a:ext cx="3810240" cy="1841400"/>
            <a:chOff x="4495680" y="3400560"/>
            <a:chExt cx="3810240" cy="1841400"/>
          </a:xfrm>
        </p:grpSpPr>
        <p:sp>
          <p:nvSpPr>
            <p:cNvPr id="540" name=""/>
            <p:cNvSpPr/>
            <p:nvPr/>
          </p:nvSpPr>
          <p:spPr>
            <a:xfrm>
              <a:off x="4495680" y="3400560"/>
              <a:ext cx="190512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400800" y="3400560"/>
              <a:ext cx="190512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6400800" y="3319200"/>
            <a:ext cx="0" cy="10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33526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11680" y="342900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ENSI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ideal 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1040" y="52261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22280" y="52419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58720" y="39006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ff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ff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68200" y="3900600"/>
            <a:ext cx="11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731960" y="3645000"/>
            <a:ext cx="3809160" cy="1841400"/>
            <a:chOff x="1731960" y="3645000"/>
            <a:chExt cx="3809160" cy="1841400"/>
          </a:xfrm>
        </p:grpSpPr>
        <p:sp>
          <p:nvSpPr>
            <p:cNvPr id="551" name=""/>
            <p:cNvSpPr/>
            <p:nvPr/>
          </p:nvSpPr>
          <p:spPr>
            <a:xfrm>
              <a:off x="1731960" y="3645000"/>
              <a:ext cx="190476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636000" y="3645000"/>
              <a:ext cx="190476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88960" y="1828800"/>
            <a:ext cx="6934320" cy="4360320"/>
            <a:chOff x="588960" y="1828800"/>
            <a:chExt cx="6934320" cy="4360320"/>
          </a:xfrm>
        </p:grpSpPr>
        <p:sp>
          <p:nvSpPr>
            <p:cNvPr id="554" name=""/>
            <p:cNvSpPr/>
            <p:nvPr/>
          </p:nvSpPr>
          <p:spPr>
            <a:xfrm>
              <a:off x="1122480" y="5486400"/>
              <a:ext cx="6400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1122480" y="1828800"/>
              <a:ext cx="0" cy="3657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38680" y="5851800"/>
              <a:ext cx="26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idence in truth of ite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6200000">
              <a:off x="-77040" y="363168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ite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731960" y="3645000"/>
            <a:ext cx="3809160" cy="1841400"/>
            <a:chOff x="1731960" y="3645000"/>
            <a:chExt cx="3809160" cy="1841400"/>
          </a:xfrm>
        </p:grpSpPr>
        <p:sp>
          <p:nvSpPr>
            <p:cNvPr id="559" name=""/>
            <p:cNvSpPr/>
            <p:nvPr/>
          </p:nvSpPr>
          <p:spPr>
            <a:xfrm>
              <a:off x="1731960" y="3645000"/>
              <a:ext cx="190476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636000" y="3645000"/>
              <a:ext cx="190476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flipV="1">
            <a:off x="3637080" y="2682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48120" y="205740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ensitivit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r 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31400" y="54705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39640" y="54864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107160"/>
            <a:ext cx="421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terally can’t tell the difference between true &amp; false items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y have similar-strength levels of confid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981000" y="1020600"/>
            <a:ext cx="69436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2120" y="5241960"/>
            <a:ext cx="7619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62120" y="1584360"/>
            <a:ext cx="0" cy="3657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77600" y="5607000"/>
            <a:ext cx="31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ce in truth value of i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16200000">
            <a:off x="-437400" y="33681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i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62120" y="3400560"/>
            <a:ext cx="3809160" cy="1841400"/>
            <a:chOff x="762120" y="3400560"/>
            <a:chExt cx="3809160" cy="1841400"/>
          </a:xfrm>
        </p:grpSpPr>
        <p:sp>
          <p:nvSpPr>
            <p:cNvPr id="572" name=""/>
            <p:cNvSpPr/>
            <p:nvPr/>
          </p:nvSpPr>
          <p:spPr>
            <a:xfrm>
              <a:off x="762120" y="3400560"/>
              <a:ext cx="190476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666160" y="3400560"/>
              <a:ext cx="190476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495680" y="3400560"/>
            <a:ext cx="3810240" cy="1841400"/>
            <a:chOff x="4495680" y="3400560"/>
            <a:chExt cx="3810240" cy="1841400"/>
          </a:xfrm>
        </p:grpSpPr>
        <p:sp>
          <p:nvSpPr>
            <p:cNvPr id="575" name=""/>
            <p:cNvSpPr/>
            <p:nvPr/>
          </p:nvSpPr>
          <p:spPr>
            <a:xfrm>
              <a:off x="4495680" y="3400560"/>
              <a:ext cx="190512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400800" y="3400560"/>
              <a:ext cx="190512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 flipV="1">
            <a:off x="6400800" y="3319200"/>
            <a:ext cx="0" cy="10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43200" y="33526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7080" y="3429000"/>
            <a:ext cx="258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NEGATIVE sensi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worst case 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1040" y="52261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22280" y="52419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92480" y="3900600"/>
            <a:ext cx="11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35880" y="39006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ff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ff"/>
                </a:solidFill>
                <a:latin typeface="Times New Roman"/>
              </a:rPr>
              <a:t>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60240" y="179784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41240" y="1981080"/>
            <a:ext cx="6934320" cy="4360320"/>
            <a:chOff x="741240" y="1981080"/>
            <a:chExt cx="6934320" cy="4360320"/>
          </a:xfrm>
        </p:grpSpPr>
        <p:sp>
          <p:nvSpPr>
            <p:cNvPr id="587" name=""/>
            <p:cNvSpPr/>
            <p:nvPr/>
          </p:nvSpPr>
          <p:spPr>
            <a:xfrm>
              <a:off x="1274760" y="5638680"/>
              <a:ext cx="6400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274760" y="1981080"/>
              <a:ext cx="0" cy="3657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90240" y="6004080"/>
              <a:ext cx="31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idence in truth value of ite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6200000">
              <a:off x="74880" y="378396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ite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884240" y="3797280"/>
            <a:ext cx="3810240" cy="1841400"/>
            <a:chOff x="1884240" y="3797280"/>
            <a:chExt cx="3810240" cy="1841400"/>
          </a:xfrm>
        </p:grpSpPr>
        <p:sp>
          <p:nvSpPr>
            <p:cNvPr id="592" name=""/>
            <p:cNvSpPr/>
            <p:nvPr/>
          </p:nvSpPr>
          <p:spPr>
            <a:xfrm>
              <a:off x="1884240" y="3797280"/>
              <a:ext cx="190512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789360" y="3797280"/>
              <a:ext cx="190512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713040" y="3797280"/>
            <a:ext cx="3810240" cy="1841400"/>
            <a:chOff x="3713040" y="3797280"/>
            <a:chExt cx="3810240" cy="1841400"/>
          </a:xfrm>
        </p:grpSpPr>
        <p:sp>
          <p:nvSpPr>
            <p:cNvPr id="595" name=""/>
            <p:cNvSpPr/>
            <p:nvPr/>
          </p:nvSpPr>
          <p:spPr>
            <a:xfrm>
              <a:off x="3713040" y="3797280"/>
              <a:ext cx="190512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618160" y="3797280"/>
              <a:ext cx="1905120" cy="1841400"/>
            </a:xfrm>
            <a:custGeom>
              <a:avLst/>
              <a:gdLst/>
              <a:ahLst/>
              <a:rect l="l" t="t" r="r" b="b"/>
              <a:pathLst>
                <a:path w="1200" h="1160">
                  <a:moveTo>
                    <a:pt x="0" y="1160"/>
                  </a:moveTo>
                  <a:cubicBezTo>
                    <a:pt x="68" y="1144"/>
                    <a:pt x="136" y="1128"/>
                    <a:pt x="192" y="1112"/>
                  </a:cubicBezTo>
                  <a:cubicBezTo>
                    <a:pt x="248" y="1096"/>
                    <a:pt x="296" y="1080"/>
                    <a:pt x="336" y="1064"/>
                  </a:cubicBezTo>
                  <a:cubicBezTo>
                    <a:pt x="376" y="1048"/>
                    <a:pt x="400" y="1040"/>
                    <a:pt x="432" y="1016"/>
                  </a:cubicBezTo>
                  <a:cubicBezTo>
                    <a:pt x="464" y="992"/>
                    <a:pt x="488" y="976"/>
                    <a:pt x="528" y="920"/>
                  </a:cubicBezTo>
                  <a:cubicBezTo>
                    <a:pt x="568" y="864"/>
                    <a:pt x="632" y="752"/>
                    <a:pt x="672" y="680"/>
                  </a:cubicBezTo>
                  <a:cubicBezTo>
                    <a:pt x="712" y="608"/>
                    <a:pt x="736" y="552"/>
                    <a:pt x="768" y="488"/>
                  </a:cubicBezTo>
                  <a:cubicBezTo>
                    <a:pt x="800" y="424"/>
                    <a:pt x="832" y="352"/>
                    <a:pt x="864" y="296"/>
                  </a:cubicBezTo>
                  <a:cubicBezTo>
                    <a:pt x="896" y="240"/>
                    <a:pt x="936" y="184"/>
                    <a:pt x="960" y="152"/>
                  </a:cubicBezTo>
                  <a:cubicBezTo>
                    <a:pt x="984" y="120"/>
                    <a:pt x="992" y="120"/>
                    <a:pt x="1008" y="104"/>
                  </a:cubicBezTo>
                  <a:cubicBezTo>
                    <a:pt x="1024" y="88"/>
                    <a:pt x="1032" y="72"/>
                    <a:pt x="1056" y="56"/>
                  </a:cubicBezTo>
                  <a:cubicBezTo>
                    <a:pt x="1080" y="40"/>
                    <a:pt x="1128" y="16"/>
                    <a:pt x="1152" y="8"/>
                  </a:cubicBezTo>
                  <a:cubicBezTo>
                    <a:pt x="1176" y="0"/>
                    <a:pt x="1188" y="4"/>
                    <a:pt x="1200" y="8"/>
                  </a:cubicBez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789360" y="2498760"/>
            <a:ext cx="1828800" cy="1235160"/>
            <a:chOff x="3789360" y="2498760"/>
            <a:chExt cx="1828800" cy="1235160"/>
          </a:xfrm>
        </p:grpSpPr>
        <p:sp>
          <p:nvSpPr>
            <p:cNvPr id="598" name=""/>
            <p:cNvSpPr/>
            <p:nvPr/>
          </p:nvSpPr>
          <p:spPr>
            <a:xfrm flipV="1">
              <a:off x="3789360" y="28195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618160" y="28195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65320" y="2819520"/>
              <a:ext cx="167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59320" y="249876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’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9040" y="3657240"/>
            <a:ext cx="464040" cy="2395080"/>
            <a:chOff x="5009040" y="3657240"/>
            <a:chExt cx="464040" cy="2395080"/>
          </a:xfrm>
        </p:grpSpPr>
        <p:sp>
          <p:nvSpPr>
            <p:cNvPr id="603" name=""/>
            <p:cNvSpPr/>
            <p:nvPr/>
          </p:nvSpPr>
          <p:spPr>
            <a:xfrm flipV="1">
              <a:off x="5161320" y="36572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09040" y="5715000"/>
              <a:ext cx="46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B’’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184040" y="5622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91920" y="5638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51000" y="2588400"/>
            <a:ext cx="2741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ome positive sensi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ow positive b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acceptance threshol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65160" y="47235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ad accep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334120" y="51055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52440" y="47235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ad reje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2520" y="50292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38800" y="35805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Good reje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19520" y="3962520"/>
            <a:ext cx="3808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05480" y="38091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Good accep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248520" y="411480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52640" y="1495080"/>
            <a:ext cx="638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ample prob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tanks adjacent to bridge are enemy 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pons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ES (accept as true) or NO (reject as fal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nsitivity (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rimination of true/false situa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= S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ias (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bability of item acceptance/rejecti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= IB’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219320" y="1981080"/>
            <a:ext cx="0" cy="3505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19320" y="380988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52480" y="1981080"/>
            <a:ext cx="457200" cy="18288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21280" y="3825720"/>
            <a:ext cx="11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ensiti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deal 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6720" y="3809880"/>
            <a:ext cx="457200" cy="18288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25400" y="259056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ensiti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wrong situatio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00600" y="1981080"/>
            <a:ext cx="457200" cy="18288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19000" y="3825720"/>
            <a:ext cx="113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i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oo ra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3809880"/>
            <a:ext cx="457200" cy="18288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710680" y="2606400"/>
            <a:ext cx="12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i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oo cau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2590920"/>
            <a:ext cx="457200" cy="121896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276720"/>
            <a:ext cx="457200" cy="53316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162920" y="39618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YP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71520" y="1748160"/>
            <a:ext cx="81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+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19320" y="1981080"/>
            <a:ext cx="0" cy="3505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19320" y="380988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1981080"/>
            <a:ext cx="457200" cy="18288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35240" y="453960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6720" y="1981080"/>
            <a:ext cx="457200" cy="18288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0760" y="4495320"/>
            <a:ext cx="185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omprehension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odel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76920" y="3809880"/>
            <a:ext cx="457200" cy="30492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05680" y="4495320"/>
            <a:ext cx="145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u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evelop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72200" y="3505320"/>
            <a:ext cx="457200" cy="30456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6200" y="449532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oA int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3809880"/>
            <a:ext cx="457200" cy="152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52480" y="3276720"/>
            <a:ext cx="457200" cy="53316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1520" y="1748160"/>
            <a:ext cx="81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+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3048120"/>
            <a:ext cx="457200" cy="76176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76920" y="3276720"/>
            <a:ext cx="457200" cy="53316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6943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hy we want methods and metrics for studying sensemaking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24200" indent="-12420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ed to attribute effects - predict - in order to provide suppor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4200" indent="-12420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e from concepts  to metrics to analysis to (testable) mod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4200" indent="-12420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uce subjective bias (influence of our own sensemaking, interpret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4200" indent="-12420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 existing clear metrics we can use  - no absol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4200" indent="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derstand how human performs, and what condition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cilitate ‘good’ performance (what hind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4200" indent="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entify the properties of organisation, process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chnology, training, etc which are important for su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4200" indent="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design and management methods and tools t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e 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4200" indent="-124200" algn="ctr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NB not necessarily numbers - could b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4200" indent="0">
              <a:lnSpc>
                <a:spcPts val="1998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81000" y="1018440"/>
            <a:ext cx="69436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52280" y="762120"/>
          <a:ext cx="8839440" cy="592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59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QUA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hematical assessment of 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eds the trut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, bias, components, temp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? Team &amp; shared 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ehavioural correlate of 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EYE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3915000" cy="16761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980280" y="3336840"/>
            <a:ext cx="33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king eye-point-of-gaze (EPO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VINTHEC2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743280" cy="47527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 flipH="1">
            <a:off x="5486040" y="3276720"/>
            <a:ext cx="1143000" cy="3045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94200" y="4570560"/>
            <a:ext cx="246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o EPOG patte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rrelate with S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A320-2" descr=""/>
          <p:cNvPicPr/>
          <p:nvPr/>
        </p:nvPicPr>
        <p:blipFill>
          <a:blip r:embed="rId1"/>
          <a:srcRect l="0" t="0" r="0" b="47789"/>
          <a:stretch/>
        </p:blipFill>
        <p:spPr>
          <a:xfrm>
            <a:off x="1371600" y="1600200"/>
            <a:ext cx="6700680" cy="41148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POG resear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19520" y="2514600"/>
            <a:ext cx="2590560" cy="1219320"/>
          </a:xfrm>
          <a:custGeom>
            <a:avLst/>
            <a:gdLst/>
            <a:ahLst/>
            <a:rect l="l" t="t" r="r" b="b"/>
            <a:pathLst>
              <a:path w="1632" h="768">
                <a:moveTo>
                  <a:pt x="672" y="144"/>
                </a:moveTo>
                <a:lnTo>
                  <a:pt x="576" y="192"/>
                </a:lnTo>
                <a:lnTo>
                  <a:pt x="672" y="192"/>
                </a:lnTo>
                <a:lnTo>
                  <a:pt x="720" y="144"/>
                </a:lnTo>
                <a:lnTo>
                  <a:pt x="720" y="192"/>
                </a:lnTo>
                <a:lnTo>
                  <a:pt x="672" y="96"/>
                </a:lnTo>
                <a:lnTo>
                  <a:pt x="1632" y="96"/>
                </a:lnTo>
                <a:lnTo>
                  <a:pt x="768" y="144"/>
                </a:lnTo>
                <a:lnTo>
                  <a:pt x="672" y="240"/>
                </a:lnTo>
                <a:lnTo>
                  <a:pt x="576" y="96"/>
                </a:lnTo>
                <a:lnTo>
                  <a:pt x="0" y="144"/>
                </a:lnTo>
                <a:lnTo>
                  <a:pt x="624" y="144"/>
                </a:lnTo>
                <a:lnTo>
                  <a:pt x="432" y="672"/>
                </a:lnTo>
                <a:lnTo>
                  <a:pt x="576" y="240"/>
                </a:lnTo>
                <a:lnTo>
                  <a:pt x="480" y="672"/>
                </a:lnTo>
                <a:lnTo>
                  <a:pt x="528" y="624"/>
                </a:lnTo>
                <a:lnTo>
                  <a:pt x="624" y="192"/>
                </a:lnTo>
                <a:lnTo>
                  <a:pt x="576" y="720"/>
                </a:lnTo>
                <a:lnTo>
                  <a:pt x="624" y="0"/>
                </a:lnTo>
                <a:lnTo>
                  <a:pt x="480" y="768"/>
                </a:lnTo>
                <a:lnTo>
                  <a:pt x="432" y="672"/>
                </a:lnTo>
                <a:lnTo>
                  <a:pt x="576" y="672"/>
                </a:lnTo>
                <a:lnTo>
                  <a:pt x="480" y="768"/>
                </a:lnTo>
                <a:lnTo>
                  <a:pt x="432" y="624"/>
                </a:lnTo>
                <a:lnTo>
                  <a:pt x="528" y="624"/>
                </a:lnTo>
                <a:lnTo>
                  <a:pt x="528" y="768"/>
                </a:lnTo>
                <a:lnTo>
                  <a:pt x="624" y="96"/>
                </a:ln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3276360" y="3200040"/>
            <a:ext cx="228600" cy="838080"/>
          </a:xfrm>
          <a:custGeom>
            <a:avLst/>
            <a:gdLst/>
            <a:ahLst/>
            <a:rect l="l" t="t" r="r" b="b"/>
            <a:pathLst>
              <a:path w="217" h="495">
                <a:moveTo>
                  <a:pt x="97" y="363"/>
                </a:moveTo>
                <a:cubicBezTo>
                  <a:pt x="87" y="366"/>
                  <a:pt x="51" y="373"/>
                  <a:pt x="57" y="395"/>
                </a:cubicBezTo>
                <a:cubicBezTo>
                  <a:pt x="59" y="403"/>
                  <a:pt x="73" y="400"/>
                  <a:pt x="81" y="403"/>
                </a:cubicBezTo>
                <a:cubicBezTo>
                  <a:pt x="142" y="388"/>
                  <a:pt x="99" y="393"/>
                  <a:pt x="65" y="371"/>
                </a:cubicBezTo>
                <a:cubicBezTo>
                  <a:pt x="73" y="368"/>
                  <a:pt x="81" y="363"/>
                  <a:pt x="89" y="363"/>
                </a:cubicBezTo>
                <a:cubicBezTo>
                  <a:pt x="112" y="363"/>
                  <a:pt x="134" y="392"/>
                  <a:pt x="89" y="347"/>
                </a:cubicBezTo>
                <a:cubicBezTo>
                  <a:pt x="112" y="312"/>
                  <a:pt x="118" y="299"/>
                  <a:pt x="145" y="339"/>
                </a:cubicBezTo>
                <a:cubicBezTo>
                  <a:pt x="122" y="384"/>
                  <a:pt x="121" y="375"/>
                  <a:pt x="73" y="387"/>
                </a:cubicBezTo>
                <a:cubicBezTo>
                  <a:pt x="48" y="424"/>
                  <a:pt x="39" y="420"/>
                  <a:pt x="25" y="379"/>
                </a:cubicBezTo>
                <a:cubicBezTo>
                  <a:pt x="37" y="333"/>
                  <a:pt x="22" y="345"/>
                  <a:pt x="65" y="363"/>
                </a:cubicBezTo>
                <a:cubicBezTo>
                  <a:pt x="73" y="366"/>
                  <a:pt x="81" y="367"/>
                  <a:pt x="89" y="371"/>
                </a:cubicBezTo>
                <a:cubicBezTo>
                  <a:pt x="98" y="375"/>
                  <a:pt x="117" y="396"/>
                  <a:pt x="113" y="387"/>
                </a:cubicBezTo>
                <a:cubicBezTo>
                  <a:pt x="102" y="364"/>
                  <a:pt x="20" y="327"/>
                  <a:pt x="81" y="347"/>
                </a:cubicBezTo>
                <a:cubicBezTo>
                  <a:pt x="114" y="372"/>
                  <a:pt x="148" y="392"/>
                  <a:pt x="185" y="411"/>
                </a:cubicBezTo>
                <a:cubicBezTo>
                  <a:pt x="152" y="418"/>
                  <a:pt x="121" y="424"/>
                  <a:pt x="89" y="435"/>
                </a:cubicBezTo>
                <a:cubicBezTo>
                  <a:pt x="83" y="411"/>
                  <a:pt x="79" y="387"/>
                  <a:pt x="73" y="363"/>
                </a:cubicBezTo>
                <a:cubicBezTo>
                  <a:pt x="71" y="355"/>
                  <a:pt x="57" y="342"/>
                  <a:pt x="65" y="339"/>
                </a:cubicBezTo>
                <a:cubicBezTo>
                  <a:pt x="80" y="333"/>
                  <a:pt x="97" y="344"/>
                  <a:pt x="113" y="347"/>
                </a:cubicBezTo>
                <a:cubicBezTo>
                  <a:pt x="145" y="363"/>
                  <a:pt x="217" y="387"/>
                  <a:pt x="121" y="371"/>
                </a:cubicBezTo>
                <a:cubicBezTo>
                  <a:pt x="70" y="384"/>
                  <a:pt x="85" y="367"/>
                  <a:pt x="49" y="331"/>
                </a:cubicBezTo>
                <a:cubicBezTo>
                  <a:pt x="35" y="288"/>
                  <a:pt x="39" y="312"/>
                  <a:pt x="65" y="331"/>
                </a:cubicBezTo>
                <a:cubicBezTo>
                  <a:pt x="82" y="343"/>
                  <a:pt x="103" y="351"/>
                  <a:pt x="121" y="363"/>
                </a:cubicBezTo>
                <a:cubicBezTo>
                  <a:pt x="106" y="421"/>
                  <a:pt x="73" y="434"/>
                  <a:pt x="17" y="443"/>
                </a:cubicBezTo>
                <a:cubicBezTo>
                  <a:pt x="34" y="495"/>
                  <a:pt x="62" y="474"/>
                  <a:pt x="97" y="451"/>
                </a:cubicBezTo>
                <a:cubicBezTo>
                  <a:pt x="87" y="411"/>
                  <a:pt x="75" y="402"/>
                  <a:pt x="49" y="371"/>
                </a:cubicBezTo>
                <a:cubicBezTo>
                  <a:pt x="43" y="364"/>
                  <a:pt x="40" y="354"/>
                  <a:pt x="33" y="347"/>
                </a:cubicBezTo>
                <a:cubicBezTo>
                  <a:pt x="26" y="340"/>
                  <a:pt x="0" y="334"/>
                  <a:pt x="9" y="331"/>
                </a:cubicBezTo>
                <a:cubicBezTo>
                  <a:pt x="24" y="326"/>
                  <a:pt x="41" y="337"/>
                  <a:pt x="57" y="339"/>
                </a:cubicBezTo>
                <a:cubicBezTo>
                  <a:pt x="81" y="342"/>
                  <a:pt x="105" y="344"/>
                  <a:pt x="129" y="347"/>
                </a:cubicBezTo>
                <a:cubicBezTo>
                  <a:pt x="118" y="350"/>
                  <a:pt x="108" y="352"/>
                  <a:pt x="97" y="355"/>
                </a:cubicBezTo>
                <a:cubicBezTo>
                  <a:pt x="89" y="357"/>
                  <a:pt x="75" y="371"/>
                  <a:pt x="73" y="363"/>
                </a:cubicBezTo>
                <a:cubicBezTo>
                  <a:pt x="70" y="346"/>
                  <a:pt x="89" y="315"/>
                  <a:pt x="89" y="315"/>
                </a:cubicBezTo>
                <a:cubicBezTo>
                  <a:pt x="102" y="336"/>
                  <a:pt x="153" y="387"/>
                  <a:pt x="129" y="379"/>
                </a:cubicBezTo>
                <a:cubicBezTo>
                  <a:pt x="113" y="374"/>
                  <a:pt x="97" y="368"/>
                  <a:pt x="81" y="363"/>
                </a:cubicBezTo>
                <a:cubicBezTo>
                  <a:pt x="73" y="360"/>
                  <a:pt x="57" y="355"/>
                  <a:pt x="57" y="355"/>
                </a:cubicBezTo>
                <a:cubicBezTo>
                  <a:pt x="60" y="288"/>
                  <a:pt x="62" y="222"/>
                  <a:pt x="65" y="155"/>
                </a:cubicBezTo>
                <a:cubicBezTo>
                  <a:pt x="67" y="112"/>
                  <a:pt x="80" y="69"/>
                  <a:pt x="73" y="27"/>
                </a:cubicBezTo>
                <a:cubicBezTo>
                  <a:pt x="69" y="0"/>
                  <a:pt x="62" y="80"/>
                  <a:pt x="57" y="107"/>
                </a:cubicBezTo>
                <a:cubicBezTo>
                  <a:pt x="60" y="163"/>
                  <a:pt x="61" y="219"/>
                  <a:pt x="65" y="275"/>
                </a:cubicBezTo>
                <a:cubicBezTo>
                  <a:pt x="66" y="286"/>
                  <a:pt x="63" y="302"/>
                  <a:pt x="73" y="307"/>
                </a:cubicBezTo>
                <a:cubicBezTo>
                  <a:pt x="97" y="320"/>
                  <a:pt x="153" y="323"/>
                  <a:pt x="153" y="323"/>
                </a:cubicBezTo>
                <a:cubicBezTo>
                  <a:pt x="150" y="334"/>
                  <a:pt x="144" y="344"/>
                  <a:pt x="145" y="355"/>
                </a:cubicBezTo>
                <a:cubicBezTo>
                  <a:pt x="147" y="372"/>
                  <a:pt x="161" y="403"/>
                  <a:pt x="161" y="403"/>
                </a:cubicBezTo>
                <a:cubicBezTo>
                  <a:pt x="180" y="346"/>
                  <a:pt x="168" y="369"/>
                  <a:pt x="193" y="331"/>
                </a:cubicBezTo>
                <a:cubicBezTo>
                  <a:pt x="171" y="286"/>
                  <a:pt x="168" y="301"/>
                  <a:pt x="129" y="275"/>
                </a:cubicBezTo>
                <a:cubicBezTo>
                  <a:pt x="127" y="281"/>
                  <a:pt x="110" y="328"/>
                  <a:pt x="113" y="331"/>
                </a:cubicBezTo>
                <a:cubicBezTo>
                  <a:pt x="118" y="336"/>
                  <a:pt x="161" y="287"/>
                  <a:pt x="161" y="307"/>
                </a:cubicBezTo>
                <a:cubicBezTo>
                  <a:pt x="161" y="317"/>
                  <a:pt x="144" y="317"/>
                  <a:pt x="137" y="323"/>
                </a:cubicBezTo>
                <a:cubicBezTo>
                  <a:pt x="123" y="335"/>
                  <a:pt x="110" y="350"/>
                  <a:pt x="97" y="363"/>
                </a:cubicBezTo>
                <a:close/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90720" y="2644920"/>
            <a:ext cx="2665440" cy="1965240"/>
          </a:xfrm>
          <a:custGeom>
            <a:avLst/>
            <a:gdLst/>
            <a:ahLst/>
            <a:rect l="l" t="t" r="r" b="b"/>
            <a:pathLst>
              <a:path w="1679" h="1238">
                <a:moveTo>
                  <a:pt x="506" y="590"/>
                </a:moveTo>
                <a:cubicBezTo>
                  <a:pt x="508" y="584"/>
                  <a:pt x="520" y="542"/>
                  <a:pt x="530" y="542"/>
                </a:cubicBezTo>
                <a:cubicBezTo>
                  <a:pt x="540" y="542"/>
                  <a:pt x="565" y="583"/>
                  <a:pt x="570" y="590"/>
                </a:cubicBezTo>
                <a:cubicBezTo>
                  <a:pt x="578" y="585"/>
                  <a:pt x="594" y="584"/>
                  <a:pt x="594" y="574"/>
                </a:cubicBezTo>
                <a:cubicBezTo>
                  <a:pt x="594" y="566"/>
                  <a:pt x="577" y="577"/>
                  <a:pt x="570" y="582"/>
                </a:cubicBezTo>
                <a:cubicBezTo>
                  <a:pt x="561" y="588"/>
                  <a:pt x="555" y="599"/>
                  <a:pt x="546" y="606"/>
                </a:cubicBezTo>
                <a:cubicBezTo>
                  <a:pt x="536" y="613"/>
                  <a:pt x="525" y="617"/>
                  <a:pt x="514" y="622"/>
                </a:cubicBezTo>
                <a:cubicBezTo>
                  <a:pt x="534" y="502"/>
                  <a:pt x="509" y="625"/>
                  <a:pt x="530" y="638"/>
                </a:cubicBezTo>
                <a:cubicBezTo>
                  <a:pt x="535" y="641"/>
                  <a:pt x="571" y="584"/>
                  <a:pt x="578" y="574"/>
                </a:cubicBezTo>
                <a:cubicBezTo>
                  <a:pt x="581" y="609"/>
                  <a:pt x="559" y="656"/>
                  <a:pt x="586" y="678"/>
                </a:cubicBezTo>
                <a:cubicBezTo>
                  <a:pt x="605" y="694"/>
                  <a:pt x="618" y="638"/>
                  <a:pt x="626" y="614"/>
                </a:cubicBezTo>
                <a:cubicBezTo>
                  <a:pt x="629" y="606"/>
                  <a:pt x="642" y="593"/>
                  <a:pt x="634" y="590"/>
                </a:cubicBezTo>
                <a:cubicBezTo>
                  <a:pt x="623" y="586"/>
                  <a:pt x="613" y="601"/>
                  <a:pt x="602" y="606"/>
                </a:cubicBezTo>
                <a:cubicBezTo>
                  <a:pt x="574" y="618"/>
                  <a:pt x="555" y="617"/>
                  <a:pt x="522" y="622"/>
                </a:cubicBezTo>
                <a:cubicBezTo>
                  <a:pt x="543" y="594"/>
                  <a:pt x="561" y="567"/>
                  <a:pt x="586" y="542"/>
                </a:cubicBezTo>
                <a:cubicBezTo>
                  <a:pt x="551" y="539"/>
                  <a:pt x="491" y="567"/>
                  <a:pt x="482" y="534"/>
                </a:cubicBezTo>
                <a:cubicBezTo>
                  <a:pt x="454" y="434"/>
                  <a:pt x="562" y="290"/>
                  <a:pt x="610" y="214"/>
                </a:cubicBezTo>
                <a:cubicBezTo>
                  <a:pt x="625" y="162"/>
                  <a:pt x="655" y="62"/>
                  <a:pt x="666" y="6"/>
                </a:cubicBezTo>
                <a:cubicBezTo>
                  <a:pt x="667" y="0"/>
                  <a:pt x="658" y="22"/>
                  <a:pt x="658" y="22"/>
                </a:cubicBezTo>
                <a:cubicBezTo>
                  <a:pt x="637" y="145"/>
                  <a:pt x="610" y="269"/>
                  <a:pt x="578" y="390"/>
                </a:cubicBezTo>
                <a:cubicBezTo>
                  <a:pt x="569" y="425"/>
                  <a:pt x="566" y="464"/>
                  <a:pt x="546" y="494"/>
                </a:cubicBezTo>
                <a:cubicBezTo>
                  <a:pt x="536" y="509"/>
                  <a:pt x="506" y="534"/>
                  <a:pt x="522" y="542"/>
                </a:cubicBezTo>
                <a:cubicBezTo>
                  <a:pt x="531" y="546"/>
                  <a:pt x="537" y="530"/>
                  <a:pt x="546" y="526"/>
                </a:cubicBezTo>
                <a:cubicBezTo>
                  <a:pt x="572" y="514"/>
                  <a:pt x="602" y="510"/>
                  <a:pt x="626" y="494"/>
                </a:cubicBezTo>
                <a:cubicBezTo>
                  <a:pt x="725" y="429"/>
                  <a:pt x="818" y="355"/>
                  <a:pt x="914" y="286"/>
                </a:cubicBezTo>
                <a:cubicBezTo>
                  <a:pt x="1095" y="157"/>
                  <a:pt x="1016" y="193"/>
                  <a:pt x="1170" y="142"/>
                </a:cubicBezTo>
                <a:cubicBezTo>
                  <a:pt x="1228" y="98"/>
                  <a:pt x="1295" y="82"/>
                  <a:pt x="1114" y="134"/>
                </a:cubicBezTo>
                <a:cubicBezTo>
                  <a:pt x="1079" y="156"/>
                  <a:pt x="800" y="336"/>
                  <a:pt x="714" y="374"/>
                </a:cubicBezTo>
                <a:cubicBezTo>
                  <a:pt x="632" y="410"/>
                  <a:pt x="529" y="436"/>
                  <a:pt x="442" y="462"/>
                </a:cubicBezTo>
                <a:cubicBezTo>
                  <a:pt x="427" y="472"/>
                  <a:pt x="378" y="479"/>
                  <a:pt x="394" y="486"/>
                </a:cubicBezTo>
                <a:cubicBezTo>
                  <a:pt x="446" y="508"/>
                  <a:pt x="604" y="509"/>
                  <a:pt x="634" y="510"/>
                </a:cubicBezTo>
                <a:cubicBezTo>
                  <a:pt x="807" y="518"/>
                  <a:pt x="921" y="520"/>
                  <a:pt x="1098" y="526"/>
                </a:cubicBezTo>
                <a:cubicBezTo>
                  <a:pt x="1116" y="520"/>
                  <a:pt x="1166" y="527"/>
                  <a:pt x="1154" y="542"/>
                </a:cubicBezTo>
                <a:cubicBezTo>
                  <a:pt x="1140" y="559"/>
                  <a:pt x="1112" y="558"/>
                  <a:pt x="1090" y="558"/>
                </a:cubicBezTo>
                <a:cubicBezTo>
                  <a:pt x="957" y="561"/>
                  <a:pt x="823" y="563"/>
                  <a:pt x="690" y="566"/>
                </a:cubicBezTo>
                <a:cubicBezTo>
                  <a:pt x="871" y="582"/>
                  <a:pt x="1052" y="597"/>
                  <a:pt x="1234" y="606"/>
                </a:cubicBezTo>
                <a:cubicBezTo>
                  <a:pt x="1247" y="603"/>
                  <a:pt x="1262" y="592"/>
                  <a:pt x="1274" y="598"/>
                </a:cubicBezTo>
                <a:cubicBezTo>
                  <a:pt x="1283" y="602"/>
                  <a:pt x="1254" y="605"/>
                  <a:pt x="1250" y="614"/>
                </a:cubicBezTo>
                <a:cubicBezTo>
                  <a:pt x="1226" y="662"/>
                  <a:pt x="1214" y="739"/>
                  <a:pt x="1194" y="790"/>
                </a:cubicBezTo>
                <a:cubicBezTo>
                  <a:pt x="1185" y="812"/>
                  <a:pt x="1170" y="831"/>
                  <a:pt x="1162" y="854"/>
                </a:cubicBezTo>
                <a:cubicBezTo>
                  <a:pt x="1159" y="862"/>
                  <a:pt x="1154" y="886"/>
                  <a:pt x="1154" y="878"/>
                </a:cubicBezTo>
                <a:cubicBezTo>
                  <a:pt x="1154" y="806"/>
                  <a:pt x="1183" y="709"/>
                  <a:pt x="1194" y="638"/>
                </a:cubicBezTo>
                <a:cubicBezTo>
                  <a:pt x="1199" y="606"/>
                  <a:pt x="1204" y="574"/>
                  <a:pt x="1210" y="542"/>
                </a:cubicBezTo>
                <a:cubicBezTo>
                  <a:pt x="1212" y="529"/>
                  <a:pt x="1231" y="498"/>
                  <a:pt x="1218" y="502"/>
                </a:cubicBezTo>
                <a:cubicBezTo>
                  <a:pt x="1200" y="508"/>
                  <a:pt x="1186" y="550"/>
                  <a:pt x="1186" y="550"/>
                </a:cubicBezTo>
                <a:cubicBezTo>
                  <a:pt x="1154" y="678"/>
                  <a:pt x="1150" y="827"/>
                  <a:pt x="1138" y="958"/>
                </a:cubicBezTo>
                <a:cubicBezTo>
                  <a:pt x="1137" y="970"/>
                  <a:pt x="1150" y="937"/>
                  <a:pt x="1154" y="926"/>
                </a:cubicBezTo>
                <a:cubicBezTo>
                  <a:pt x="1163" y="900"/>
                  <a:pt x="1172" y="873"/>
                  <a:pt x="1178" y="846"/>
                </a:cubicBezTo>
                <a:cubicBezTo>
                  <a:pt x="1201" y="744"/>
                  <a:pt x="1209" y="633"/>
                  <a:pt x="1242" y="534"/>
                </a:cubicBezTo>
                <a:cubicBezTo>
                  <a:pt x="1227" y="447"/>
                  <a:pt x="1208" y="330"/>
                  <a:pt x="1130" y="278"/>
                </a:cubicBezTo>
                <a:cubicBezTo>
                  <a:pt x="1141" y="311"/>
                  <a:pt x="1159" y="341"/>
                  <a:pt x="1170" y="374"/>
                </a:cubicBezTo>
                <a:cubicBezTo>
                  <a:pt x="1173" y="384"/>
                  <a:pt x="1188" y="409"/>
                  <a:pt x="1178" y="406"/>
                </a:cubicBezTo>
                <a:cubicBezTo>
                  <a:pt x="1158" y="399"/>
                  <a:pt x="1145" y="357"/>
                  <a:pt x="1130" y="342"/>
                </a:cubicBezTo>
                <a:cubicBezTo>
                  <a:pt x="1114" y="326"/>
                  <a:pt x="1102" y="325"/>
                  <a:pt x="1082" y="318"/>
                </a:cubicBezTo>
                <a:cubicBezTo>
                  <a:pt x="1026" y="321"/>
                  <a:pt x="970" y="326"/>
                  <a:pt x="914" y="326"/>
                </a:cubicBezTo>
                <a:cubicBezTo>
                  <a:pt x="885" y="326"/>
                  <a:pt x="849" y="337"/>
                  <a:pt x="826" y="318"/>
                </a:cubicBezTo>
                <a:cubicBezTo>
                  <a:pt x="813" y="307"/>
                  <a:pt x="852" y="296"/>
                  <a:pt x="866" y="286"/>
                </a:cubicBezTo>
                <a:cubicBezTo>
                  <a:pt x="911" y="253"/>
                  <a:pt x="870" y="290"/>
                  <a:pt x="914" y="246"/>
                </a:cubicBezTo>
                <a:cubicBezTo>
                  <a:pt x="961" y="308"/>
                  <a:pt x="1002" y="325"/>
                  <a:pt x="1074" y="334"/>
                </a:cubicBezTo>
                <a:cubicBezTo>
                  <a:pt x="1124" y="317"/>
                  <a:pt x="1174" y="304"/>
                  <a:pt x="1226" y="294"/>
                </a:cubicBezTo>
                <a:cubicBezTo>
                  <a:pt x="1245" y="281"/>
                  <a:pt x="1261" y="263"/>
                  <a:pt x="1282" y="254"/>
                </a:cubicBezTo>
                <a:cubicBezTo>
                  <a:pt x="1335" y="231"/>
                  <a:pt x="1372" y="229"/>
                  <a:pt x="1418" y="198"/>
                </a:cubicBezTo>
                <a:cubicBezTo>
                  <a:pt x="1364" y="278"/>
                  <a:pt x="1363" y="368"/>
                  <a:pt x="1322" y="454"/>
                </a:cubicBezTo>
                <a:cubicBezTo>
                  <a:pt x="1296" y="510"/>
                  <a:pt x="1256" y="560"/>
                  <a:pt x="1226" y="614"/>
                </a:cubicBezTo>
                <a:cubicBezTo>
                  <a:pt x="1021" y="987"/>
                  <a:pt x="1272" y="579"/>
                  <a:pt x="1050" y="902"/>
                </a:cubicBezTo>
                <a:cubicBezTo>
                  <a:pt x="975" y="1011"/>
                  <a:pt x="935" y="1113"/>
                  <a:pt x="842" y="1206"/>
                </a:cubicBezTo>
                <a:cubicBezTo>
                  <a:pt x="839" y="1214"/>
                  <a:pt x="834" y="1238"/>
                  <a:pt x="834" y="1230"/>
                </a:cubicBezTo>
                <a:cubicBezTo>
                  <a:pt x="834" y="1160"/>
                  <a:pt x="865" y="1201"/>
                  <a:pt x="898" y="1118"/>
                </a:cubicBezTo>
                <a:cubicBezTo>
                  <a:pt x="958" y="969"/>
                  <a:pt x="897" y="1103"/>
                  <a:pt x="1010" y="926"/>
                </a:cubicBezTo>
                <a:cubicBezTo>
                  <a:pt x="1071" y="831"/>
                  <a:pt x="1126" y="733"/>
                  <a:pt x="1186" y="638"/>
                </a:cubicBezTo>
                <a:cubicBezTo>
                  <a:pt x="1217" y="589"/>
                  <a:pt x="1250" y="542"/>
                  <a:pt x="1282" y="494"/>
                </a:cubicBezTo>
                <a:cubicBezTo>
                  <a:pt x="1320" y="437"/>
                  <a:pt x="1321" y="350"/>
                  <a:pt x="1346" y="286"/>
                </a:cubicBezTo>
                <a:cubicBezTo>
                  <a:pt x="1346" y="286"/>
                  <a:pt x="1366" y="226"/>
                  <a:pt x="1370" y="214"/>
                </a:cubicBezTo>
                <a:cubicBezTo>
                  <a:pt x="1373" y="206"/>
                  <a:pt x="1378" y="190"/>
                  <a:pt x="1378" y="190"/>
                </a:cubicBezTo>
                <a:cubicBezTo>
                  <a:pt x="1386" y="193"/>
                  <a:pt x="1400" y="190"/>
                  <a:pt x="1402" y="198"/>
                </a:cubicBezTo>
                <a:cubicBezTo>
                  <a:pt x="1404" y="207"/>
                  <a:pt x="1392" y="215"/>
                  <a:pt x="1386" y="222"/>
                </a:cubicBezTo>
                <a:cubicBezTo>
                  <a:pt x="1368" y="242"/>
                  <a:pt x="1355" y="270"/>
                  <a:pt x="1330" y="278"/>
                </a:cubicBezTo>
                <a:cubicBezTo>
                  <a:pt x="1260" y="301"/>
                  <a:pt x="1314" y="286"/>
                  <a:pt x="1162" y="294"/>
                </a:cubicBezTo>
                <a:cubicBezTo>
                  <a:pt x="1106" y="308"/>
                  <a:pt x="1105" y="311"/>
                  <a:pt x="1058" y="358"/>
                </a:cubicBezTo>
                <a:cubicBezTo>
                  <a:pt x="1047" y="369"/>
                  <a:pt x="1077" y="334"/>
                  <a:pt x="1090" y="326"/>
                </a:cubicBezTo>
                <a:cubicBezTo>
                  <a:pt x="1138" y="294"/>
                  <a:pt x="1105" y="314"/>
                  <a:pt x="1194" y="278"/>
                </a:cubicBezTo>
                <a:cubicBezTo>
                  <a:pt x="1205" y="267"/>
                  <a:pt x="1213" y="253"/>
                  <a:pt x="1226" y="246"/>
                </a:cubicBezTo>
                <a:cubicBezTo>
                  <a:pt x="1333" y="192"/>
                  <a:pt x="1284" y="254"/>
                  <a:pt x="1322" y="198"/>
                </a:cubicBezTo>
                <a:cubicBezTo>
                  <a:pt x="925" y="175"/>
                  <a:pt x="528" y="167"/>
                  <a:pt x="130" y="158"/>
                </a:cubicBezTo>
                <a:cubicBezTo>
                  <a:pt x="93" y="155"/>
                  <a:pt x="54" y="160"/>
                  <a:pt x="18" y="150"/>
                </a:cubicBezTo>
                <a:cubicBezTo>
                  <a:pt x="0" y="145"/>
                  <a:pt x="55" y="144"/>
                  <a:pt x="74" y="142"/>
                </a:cubicBezTo>
                <a:cubicBezTo>
                  <a:pt x="138" y="136"/>
                  <a:pt x="202" y="129"/>
                  <a:pt x="266" y="126"/>
                </a:cubicBezTo>
                <a:cubicBezTo>
                  <a:pt x="506" y="114"/>
                  <a:pt x="746" y="111"/>
                  <a:pt x="986" y="102"/>
                </a:cubicBezTo>
                <a:cubicBezTo>
                  <a:pt x="1014" y="93"/>
                  <a:pt x="1050" y="78"/>
                  <a:pt x="962" y="126"/>
                </a:cubicBezTo>
                <a:cubicBezTo>
                  <a:pt x="851" y="186"/>
                  <a:pt x="738" y="243"/>
                  <a:pt x="626" y="302"/>
                </a:cubicBezTo>
                <a:cubicBezTo>
                  <a:pt x="474" y="382"/>
                  <a:pt x="434" y="421"/>
                  <a:pt x="322" y="542"/>
                </a:cubicBezTo>
                <a:cubicBezTo>
                  <a:pt x="294" y="573"/>
                  <a:pt x="268" y="606"/>
                  <a:pt x="242" y="638"/>
                </a:cubicBezTo>
                <a:cubicBezTo>
                  <a:pt x="234" y="648"/>
                  <a:pt x="218" y="657"/>
                  <a:pt x="218" y="670"/>
                </a:cubicBezTo>
                <a:cubicBezTo>
                  <a:pt x="218" y="678"/>
                  <a:pt x="234" y="662"/>
                  <a:pt x="242" y="662"/>
                </a:cubicBezTo>
                <a:cubicBezTo>
                  <a:pt x="362" y="657"/>
                  <a:pt x="482" y="657"/>
                  <a:pt x="602" y="654"/>
                </a:cubicBezTo>
                <a:cubicBezTo>
                  <a:pt x="485" y="584"/>
                  <a:pt x="340" y="596"/>
                  <a:pt x="210" y="574"/>
                </a:cubicBezTo>
                <a:cubicBezTo>
                  <a:pt x="335" y="551"/>
                  <a:pt x="460" y="550"/>
                  <a:pt x="586" y="542"/>
                </a:cubicBezTo>
                <a:cubicBezTo>
                  <a:pt x="597" y="539"/>
                  <a:pt x="615" y="545"/>
                  <a:pt x="618" y="534"/>
                </a:cubicBezTo>
                <a:cubicBezTo>
                  <a:pt x="621" y="523"/>
                  <a:pt x="603" y="517"/>
                  <a:pt x="594" y="510"/>
                </a:cubicBezTo>
                <a:cubicBezTo>
                  <a:pt x="563" y="483"/>
                  <a:pt x="532" y="455"/>
                  <a:pt x="498" y="430"/>
                </a:cubicBezTo>
                <a:cubicBezTo>
                  <a:pt x="393" y="353"/>
                  <a:pt x="285" y="281"/>
                  <a:pt x="178" y="206"/>
                </a:cubicBezTo>
                <a:cubicBezTo>
                  <a:pt x="154" y="190"/>
                  <a:pt x="124" y="186"/>
                  <a:pt x="98" y="174"/>
                </a:cubicBezTo>
                <a:cubicBezTo>
                  <a:pt x="89" y="170"/>
                  <a:pt x="64" y="159"/>
                  <a:pt x="74" y="158"/>
                </a:cubicBezTo>
                <a:cubicBezTo>
                  <a:pt x="162" y="151"/>
                  <a:pt x="250" y="169"/>
                  <a:pt x="338" y="174"/>
                </a:cubicBezTo>
                <a:cubicBezTo>
                  <a:pt x="477" y="171"/>
                  <a:pt x="615" y="170"/>
                  <a:pt x="754" y="166"/>
                </a:cubicBezTo>
                <a:cubicBezTo>
                  <a:pt x="802" y="165"/>
                  <a:pt x="850" y="162"/>
                  <a:pt x="898" y="158"/>
                </a:cubicBezTo>
                <a:cubicBezTo>
                  <a:pt x="909" y="157"/>
                  <a:pt x="938" y="142"/>
                  <a:pt x="930" y="150"/>
                </a:cubicBezTo>
                <a:cubicBezTo>
                  <a:pt x="909" y="171"/>
                  <a:pt x="818" y="193"/>
                  <a:pt x="802" y="198"/>
                </a:cubicBezTo>
                <a:cubicBezTo>
                  <a:pt x="764" y="227"/>
                  <a:pt x="722" y="251"/>
                  <a:pt x="682" y="278"/>
                </a:cubicBezTo>
                <a:cubicBezTo>
                  <a:pt x="765" y="328"/>
                  <a:pt x="703" y="297"/>
                  <a:pt x="866" y="326"/>
                </a:cubicBezTo>
                <a:cubicBezTo>
                  <a:pt x="994" y="349"/>
                  <a:pt x="1121" y="372"/>
                  <a:pt x="1250" y="390"/>
                </a:cubicBezTo>
                <a:cubicBezTo>
                  <a:pt x="1277" y="398"/>
                  <a:pt x="1307" y="399"/>
                  <a:pt x="1330" y="414"/>
                </a:cubicBezTo>
                <a:cubicBezTo>
                  <a:pt x="1337" y="419"/>
                  <a:pt x="1327" y="431"/>
                  <a:pt x="1322" y="438"/>
                </a:cubicBezTo>
                <a:cubicBezTo>
                  <a:pt x="1286" y="485"/>
                  <a:pt x="1245" y="502"/>
                  <a:pt x="1226" y="558"/>
                </a:cubicBezTo>
                <a:cubicBezTo>
                  <a:pt x="1229" y="518"/>
                  <a:pt x="1233" y="478"/>
                  <a:pt x="1234" y="438"/>
                </a:cubicBezTo>
                <a:cubicBezTo>
                  <a:pt x="1238" y="321"/>
                  <a:pt x="1237" y="203"/>
                  <a:pt x="1242" y="86"/>
                </a:cubicBezTo>
                <a:cubicBezTo>
                  <a:pt x="1242" y="78"/>
                  <a:pt x="1243" y="66"/>
                  <a:pt x="1250" y="62"/>
                </a:cubicBezTo>
                <a:cubicBezTo>
                  <a:pt x="1276" y="47"/>
                  <a:pt x="1309" y="52"/>
                  <a:pt x="1338" y="46"/>
                </a:cubicBezTo>
                <a:cubicBezTo>
                  <a:pt x="1321" y="81"/>
                  <a:pt x="1297" y="103"/>
                  <a:pt x="1274" y="134"/>
                </a:cubicBezTo>
                <a:cubicBezTo>
                  <a:pt x="1263" y="166"/>
                  <a:pt x="1260" y="202"/>
                  <a:pt x="1242" y="230"/>
                </a:cubicBezTo>
                <a:cubicBezTo>
                  <a:pt x="1222" y="262"/>
                  <a:pt x="1187" y="282"/>
                  <a:pt x="1162" y="310"/>
                </a:cubicBezTo>
                <a:cubicBezTo>
                  <a:pt x="1134" y="341"/>
                  <a:pt x="1109" y="374"/>
                  <a:pt x="1082" y="406"/>
                </a:cubicBezTo>
                <a:cubicBezTo>
                  <a:pt x="1055" y="488"/>
                  <a:pt x="1048" y="503"/>
                  <a:pt x="1026" y="582"/>
                </a:cubicBezTo>
                <a:cubicBezTo>
                  <a:pt x="1023" y="593"/>
                  <a:pt x="1007" y="612"/>
                  <a:pt x="1018" y="614"/>
                </a:cubicBezTo>
                <a:cubicBezTo>
                  <a:pt x="1052" y="620"/>
                  <a:pt x="1203" y="573"/>
                  <a:pt x="1226" y="566"/>
                </a:cubicBezTo>
                <a:cubicBezTo>
                  <a:pt x="1368" y="481"/>
                  <a:pt x="1405" y="467"/>
                  <a:pt x="1530" y="358"/>
                </a:cubicBezTo>
                <a:cubicBezTo>
                  <a:pt x="1570" y="323"/>
                  <a:pt x="1606" y="284"/>
                  <a:pt x="1642" y="246"/>
                </a:cubicBezTo>
                <a:cubicBezTo>
                  <a:pt x="1651" y="236"/>
                  <a:pt x="1679" y="214"/>
                  <a:pt x="1666" y="214"/>
                </a:cubicBezTo>
                <a:cubicBezTo>
                  <a:pt x="1598" y="214"/>
                  <a:pt x="1533" y="235"/>
                  <a:pt x="1466" y="246"/>
                </a:cubicBezTo>
                <a:cubicBezTo>
                  <a:pt x="1271" y="278"/>
                  <a:pt x="1080" y="312"/>
                  <a:pt x="890" y="366"/>
                </a:cubicBezTo>
                <a:cubicBezTo>
                  <a:pt x="861" y="385"/>
                  <a:pt x="870" y="373"/>
                  <a:pt x="858" y="398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23560" y="594252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tropy’ = known loss of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A and flightdeck autom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410080" y="1981080"/>
            <a:ext cx="2916360" cy="3124440"/>
            <a:chOff x="5410080" y="1981080"/>
            <a:chExt cx="2916360" cy="3124440"/>
          </a:xfrm>
        </p:grpSpPr>
        <p:sp>
          <p:nvSpPr>
            <p:cNvPr id="668" name=""/>
            <p:cNvSpPr/>
            <p:nvPr/>
          </p:nvSpPr>
          <p:spPr>
            <a:xfrm>
              <a:off x="5410080" y="1981080"/>
              <a:ext cx="29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66ff33"/>
                  </a:solidFill>
                  <a:latin typeface="Arial"/>
                </a:rPr>
                <a:t>Collision avoidance sy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69" name=""/>
            <p:cNvGraphicFramePr/>
            <p:nvPr/>
          </p:nvGraphicFramePr>
          <p:xfrm>
            <a:off x="5638680" y="2590920"/>
            <a:ext cx="2667240" cy="2514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2590920"/>
                      <a:ext cx="26672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1" name=""/>
          <p:cNvGrpSpPr/>
          <p:nvPr/>
        </p:nvGrpSpPr>
        <p:grpSpPr>
          <a:xfrm>
            <a:off x="6553800" y="3505320"/>
            <a:ext cx="375840" cy="330120"/>
            <a:chOff x="6553800" y="3505320"/>
            <a:chExt cx="375840" cy="330120"/>
          </a:xfrm>
        </p:grpSpPr>
        <p:sp>
          <p:nvSpPr>
            <p:cNvPr id="672" name=""/>
            <p:cNvSpPr/>
            <p:nvPr/>
          </p:nvSpPr>
          <p:spPr>
            <a:xfrm>
              <a:off x="6679800" y="3720960"/>
              <a:ext cx="101880" cy="114480"/>
            </a:xfrm>
            <a:prstGeom prst="diamond">
              <a:avLst/>
            </a:prstGeom>
            <a:solidFill>
              <a:srgbClr val="66ff33"/>
            </a:soli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53800" y="3505320"/>
              <a:ext cx="375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66ff33"/>
                  </a:solidFill>
                  <a:latin typeface="Arial"/>
                </a:rPr>
                <a:t>+0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1143000" y="1981080"/>
            <a:ext cx="3352680" cy="3471480"/>
            <a:chOff x="1143000" y="1981080"/>
            <a:chExt cx="3352680" cy="3471480"/>
          </a:xfrm>
        </p:grpSpPr>
        <p:sp>
          <p:nvSpPr>
            <p:cNvPr id="675" name=""/>
            <p:cNvSpPr/>
            <p:nvPr/>
          </p:nvSpPr>
          <p:spPr>
            <a:xfrm>
              <a:off x="1143000" y="2438280"/>
              <a:ext cx="3352680" cy="3014280"/>
            </a:xfrm>
            <a:prstGeom prst="rect">
              <a:avLst/>
            </a:prstGeom>
            <a:solidFill>
              <a:srgbClr val="100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urier New"/>
                </a:rPr>
                <a:t>Heathrow control this is Speedbird five five, descending now to flight level one fou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urier New"/>
                </a:rPr>
                <a:t>Speedbird five five, Heathrow control, roger, descending to flight level one fou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urier New"/>
                </a:rPr>
                <a:t>Heathrown control this is Delta four zero four, flight level two zero, request descent clearance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urier New"/>
                </a:rPr>
                <a:t>Delta four zero four, Heathrow control, what is your present altitud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urier New"/>
                </a:rPr>
                <a:t>..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06920" y="198108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Arial"/>
                </a:rPr>
                <a:t>Radio “party lin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A and flightdeck autom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352680" y="2514600"/>
            <a:ext cx="457200" cy="2057400"/>
          </a:xfrm>
          <a:prstGeom prst="rect">
            <a:avLst/>
          </a:prstGeom>
          <a:solidFill>
            <a:srgbClr val="66ff33"/>
          </a:solidFill>
          <a:ln w="936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100e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115000" y="1720800"/>
            <a:ext cx="4091400" cy="4102920"/>
            <a:chOff x="2115000" y="1720800"/>
            <a:chExt cx="4091400" cy="4102920"/>
          </a:xfrm>
        </p:grpSpPr>
        <p:grpSp>
          <p:nvGrpSpPr>
            <p:cNvPr id="681" name=""/>
            <p:cNvGrpSpPr/>
            <p:nvPr/>
          </p:nvGrpSpPr>
          <p:grpSpPr>
            <a:xfrm>
              <a:off x="2440440" y="1720800"/>
              <a:ext cx="3765960" cy="4102920"/>
              <a:chOff x="2440440" y="1720800"/>
              <a:chExt cx="3765960" cy="4102920"/>
            </a:xfrm>
          </p:grpSpPr>
          <p:sp>
            <p:nvSpPr>
              <p:cNvPr id="682" name=""/>
              <p:cNvSpPr/>
              <p:nvPr/>
            </p:nvSpPr>
            <p:spPr>
              <a:xfrm>
                <a:off x="3048120" y="4572000"/>
                <a:ext cx="29718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08320" y="5486400"/>
                <a:ext cx="273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</a:rPr>
                  <a:t>Traffic Situation Repor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259800" y="4583160"/>
                <a:ext cx="10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Detec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aircraf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94600" y="4599000"/>
                <a:ext cx="1485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Non-Detec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aircraf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3048120" y="2286000"/>
                <a:ext cx="0" cy="228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40440" y="220968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0%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40440" y="324468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5%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516760" y="43434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%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343400" y="1752480"/>
                <a:ext cx="228600" cy="228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100e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343400" y="2057400"/>
                <a:ext cx="228600" cy="2286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100e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7960" y="1720800"/>
                <a:ext cx="164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ith autom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572000" y="2025720"/>
                <a:ext cx="136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nvention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2115000" y="2617920"/>
              <a:ext cx="96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aircra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9880" y="3352680"/>
            <a:ext cx="1905120" cy="1219320"/>
            <a:chOff x="3809880" y="3352680"/>
            <a:chExt cx="1905120" cy="1219320"/>
          </a:xfrm>
        </p:grpSpPr>
        <p:sp>
          <p:nvSpPr>
            <p:cNvPr id="696" name=""/>
            <p:cNvSpPr/>
            <p:nvPr/>
          </p:nvSpPr>
          <p:spPr>
            <a:xfrm>
              <a:off x="3809880" y="3352680"/>
              <a:ext cx="457200" cy="12193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100e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57800" y="3352680"/>
              <a:ext cx="457200" cy="12193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100e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A and C2 digitization - IST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00003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5257800" cy="3286080"/>
          </a:xfrm>
          <a:prstGeom prst="rect">
            <a:avLst/>
          </a:prstGeom>
          <a:ln w="0">
            <a:noFill/>
          </a:ln>
        </p:spPr>
      </p:pic>
      <p:pic>
        <p:nvPicPr>
          <p:cNvPr id="700" name="ISTAR%20pic3" descr=""/>
          <p:cNvPicPr/>
          <p:nvPr/>
        </p:nvPicPr>
        <p:blipFill>
          <a:blip r:embed="rId2"/>
          <a:srcRect l="0" t="0" r="0" b="11056"/>
          <a:stretch/>
        </p:blipFill>
        <p:spPr>
          <a:xfrm>
            <a:off x="2362320" y="1828800"/>
            <a:ext cx="2590560" cy="19209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701" name=""/>
          <p:cNvSpPr/>
          <p:nvPr/>
        </p:nvSpPr>
        <p:spPr>
          <a:xfrm flipV="1">
            <a:off x="4343400" y="2209320"/>
            <a:ext cx="1371600" cy="3812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81840" y="175248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wn force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560" y="182880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Enemy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676520" y="2209680"/>
            <a:ext cx="1371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880" y="3886200"/>
            <a:ext cx="286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BGHQ crews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mon Operational Pi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06" name=""/>
          <p:cNvCxnSpPr>
            <a:stCxn id="707" idx="2"/>
            <a:endCxn id="700" idx="2"/>
          </p:cNvCxnSpPr>
          <p:nvPr/>
        </p:nvCxnSpPr>
        <p:spPr>
          <a:xfrm rot="10800000">
            <a:off x="3656880" y="3777480"/>
            <a:ext cx="534240" cy="1023120"/>
          </a:xfrm>
          <a:prstGeom prst="curvedConnector2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07" name=""/>
          <p:cNvSpPr/>
          <p:nvPr/>
        </p:nvSpPr>
        <p:spPr>
          <a:xfrm>
            <a:off x="4191120" y="4648320"/>
            <a:ext cx="22860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A and C2 digitization - ISTA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ISTAR%20pic5" descr=""/>
          <p:cNvPicPr/>
          <p:nvPr/>
        </p:nvPicPr>
        <p:blipFill>
          <a:blip r:embed="rId1"/>
          <a:srcRect l="0" t="0" r="0" b="11056"/>
          <a:stretch/>
        </p:blipFill>
        <p:spPr>
          <a:xfrm>
            <a:off x="1143000" y="1981080"/>
            <a:ext cx="3886200" cy="2884680"/>
          </a:xfrm>
          <a:prstGeom prst="rect">
            <a:avLst/>
          </a:prstGeom>
          <a:ln w="0">
            <a:noFill/>
          </a:ln>
        </p:spPr>
      </p:pic>
      <p:pic>
        <p:nvPicPr>
          <p:cNvPr id="710" name="PIC00009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22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1" name=""/>
          <p:cNvSpPr/>
          <p:nvPr/>
        </p:nvSpPr>
        <p:spPr>
          <a:xfrm>
            <a:off x="5408280" y="4267080"/>
            <a:ext cx="16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attlespa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igitiz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emonst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8600" y="4876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ynth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A and C2 digitization - IST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18097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80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-hr ISTAR recce 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2920" indent="-142920">
              <a:lnSpc>
                <a:spcPts val="1998"/>
              </a:lnSpc>
              <a:spcBef>
                <a:spcPts val="180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erformed with voice AND digital C2 syste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5" name="ISTAR%20pic11" descr=""/>
          <p:cNvPicPr/>
          <p:nvPr/>
        </p:nvPicPr>
        <p:blipFill>
          <a:blip r:embed="rId1"/>
          <a:srcRect l="0" t="0" r="0" b="11056"/>
          <a:stretch/>
        </p:blipFill>
        <p:spPr>
          <a:xfrm>
            <a:off x="838080" y="3124080"/>
            <a:ext cx="3886200" cy="2884680"/>
          </a:xfrm>
          <a:prstGeom prst="rect">
            <a:avLst/>
          </a:prstGeom>
          <a:ln w="0">
            <a:noFill/>
          </a:ln>
        </p:spPr>
      </p:pic>
      <p:pic>
        <p:nvPicPr>
          <p:cNvPr id="716" name="ISTAR%20pic2" descr=""/>
          <p:cNvPicPr/>
          <p:nvPr/>
        </p:nvPicPr>
        <p:blipFill>
          <a:blip r:embed="rId2"/>
          <a:srcRect l="0" t="0" r="0" b="11056"/>
          <a:stretch/>
        </p:blipFill>
        <p:spPr>
          <a:xfrm>
            <a:off x="5029200" y="3757680"/>
            <a:ext cx="3048120" cy="226224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5029200" y="304812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asures taken of mental workload &amp; situational aware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A and C2 digitization - ISTA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016000" y="2598840"/>
            <a:ext cx="5985000" cy="22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016000" y="2598840"/>
            <a:ext cx="5985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16000" y="3351240"/>
            <a:ext cx="5985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6000" y="4092480"/>
            <a:ext cx="5985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16000" y="2598840"/>
            <a:ext cx="5985000" cy="2246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3132000"/>
            <a:ext cx="485640" cy="1712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57560" y="2932200"/>
            <a:ext cx="485640" cy="191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16000" y="4844880"/>
            <a:ext cx="5985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21573600">
            <a:off x="760680" y="33526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1905120"/>
            <a:ext cx="2438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38680" y="2050920"/>
            <a:ext cx="285840" cy="214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00840" y="198108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62480" y="2052720"/>
            <a:ext cx="285840" cy="23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23200" y="198288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5257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spects of 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knowledge  of enem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057400" y="4876920"/>
            <a:ext cx="1371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38160" y="2511360"/>
            <a:ext cx="10144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14400" y="3962520"/>
            <a:ext cx="1038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 N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 N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7280" y="3200400"/>
            <a:ext cx="1395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30760" y="3406680"/>
            <a:ext cx="486000" cy="1438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78680" y="3036960"/>
            <a:ext cx="485640" cy="1807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45120" y="3218040"/>
            <a:ext cx="485640" cy="162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593040" y="2970360"/>
            <a:ext cx="485640" cy="187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29200" y="4876920"/>
            <a:ext cx="12272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J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69200" y="4876920"/>
            <a:ext cx="13032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62320" y="3124080"/>
            <a:ext cx="486000" cy="1712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657600" y="3473280"/>
            <a:ext cx="4856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352680" y="4876920"/>
            <a:ext cx="16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REH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2680" y="2819520"/>
            <a:ext cx="1676520" cy="1066680"/>
          </a:xfrm>
          <a:prstGeom prst="ellipse">
            <a:avLst/>
          </a:pr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Range of metho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servation (non intrusiv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bjective investigation (e.g. ethnographic, knowledge elicit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orytelling/anecdotes (knowledge buil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phor (pattern match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ientific method (empirical hypothesis testing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hematical analysis (base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me implic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92040" indent="-196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2040" indent="-196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th actual SA and subjective sense of SA affect decision-making &amp; perform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2040" indent="-196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chnology can affect SA for better or wo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2040" indent="-196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alyses with metrics provide specific insigh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2040" indent="-196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ther wor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S1 t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attleLab t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gnitive mod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GNET in C2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eal Decision M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? Can be used to predict dips in SA and sensemaking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429000" y="19641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uilding Industry-MoD 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lications for sensemak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nking about thin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cepts : sensemaking as processes supporting 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le of metacognition : group co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rics of SA : can be used to evaluate sensemaking sol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 can feed development of predictive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ing what’s going on so we can figure out what to d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ethods and Metric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lications for sensema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1000" y="457200"/>
            <a:ext cx="6943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ient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lex, uncertain situ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 determines capacity to decide and 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semaking determines S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gnitive processes are intrinsically goal-dir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ople form nested hierarchy of processes &amp; 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derstand SA and sensem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eed into design &amp; development of information systems and human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2040" indent="-1969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ed research -- theory into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2920" indent="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a Situation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2500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ituation is a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pattern in state sp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specially one which appears to deviate from a “normal” intended or expected patter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2920" indent="-142920">
              <a:lnSpc>
                <a:spcPts val="2500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ircraft fu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ime into f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752480" y="36622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56386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0600" y="3738600"/>
            <a:ext cx="82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0640" y="581976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i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191120"/>
            <a:ext cx="685800" cy="1218960"/>
          </a:xfrm>
          <a:prstGeom prst="ellipse">
            <a:avLst/>
          </a:prstGeom>
          <a:noFill/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68600" y="3962520"/>
            <a:ext cx="22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nexpected rate-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we have a situa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1400" y="373392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ormal take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7920" y="464832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ormal cru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4267440" cy="1066680"/>
          </a:xfrm>
          <a:custGeom>
            <a:avLst/>
            <a:gdLst/>
            <a:ahLst/>
            <a:rect l="l" t="t" r="r" b="b"/>
            <a:pathLst>
              <a:path w="2688" h="672">
                <a:moveTo>
                  <a:pt x="0" y="0"/>
                </a:moveTo>
                <a:cubicBezTo>
                  <a:pt x="28" y="32"/>
                  <a:pt x="56" y="64"/>
                  <a:pt x="96" y="96"/>
                </a:cubicBezTo>
                <a:cubicBezTo>
                  <a:pt x="136" y="128"/>
                  <a:pt x="168" y="168"/>
                  <a:pt x="240" y="192"/>
                </a:cubicBezTo>
                <a:cubicBezTo>
                  <a:pt x="312" y="216"/>
                  <a:pt x="416" y="224"/>
                  <a:pt x="528" y="240"/>
                </a:cubicBezTo>
                <a:cubicBezTo>
                  <a:pt x="640" y="256"/>
                  <a:pt x="744" y="272"/>
                  <a:pt x="912" y="288"/>
                </a:cubicBezTo>
                <a:cubicBezTo>
                  <a:pt x="1080" y="304"/>
                  <a:pt x="1320" y="320"/>
                  <a:pt x="1536" y="336"/>
                </a:cubicBezTo>
                <a:cubicBezTo>
                  <a:pt x="1752" y="352"/>
                  <a:pt x="2048" y="368"/>
                  <a:pt x="2208" y="384"/>
                </a:cubicBezTo>
                <a:cubicBezTo>
                  <a:pt x="2368" y="400"/>
                  <a:pt x="2416" y="384"/>
                  <a:pt x="2496" y="432"/>
                </a:cubicBezTo>
                <a:cubicBezTo>
                  <a:pt x="2576" y="480"/>
                  <a:pt x="2632" y="576"/>
                  <a:pt x="2688" y="67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4648320"/>
            <a:ext cx="2133360" cy="533160"/>
          </a:xfrm>
          <a:custGeom>
            <a:avLst/>
            <a:gdLst/>
            <a:ahLst/>
            <a:rect l="l" t="t" r="r" b="b"/>
            <a:pathLst>
              <a:path w="1344" h="240">
                <a:moveTo>
                  <a:pt x="0" y="0"/>
                </a:moveTo>
                <a:cubicBezTo>
                  <a:pt x="84" y="16"/>
                  <a:pt x="168" y="32"/>
                  <a:pt x="288" y="48"/>
                </a:cubicBezTo>
                <a:cubicBezTo>
                  <a:pt x="408" y="64"/>
                  <a:pt x="544" y="64"/>
                  <a:pt x="720" y="96"/>
                </a:cubicBezTo>
                <a:cubicBezTo>
                  <a:pt x="896" y="128"/>
                  <a:pt x="1120" y="184"/>
                  <a:pt x="1344" y="24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0e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1000" y="1020240"/>
            <a:ext cx="69436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recognized Patter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2720" y="180972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ts val="1998"/>
              </a:lnSpc>
              <a:spcBef>
                <a:spcPts val="1500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unrecognized pattern demands atten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2440080"/>
            <a:ext cx="1903320" cy="608040"/>
          </a:xfrm>
          <a:prstGeom prst="ellipse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733920"/>
            <a:ext cx="1600200" cy="1600200"/>
          </a:xfrm>
          <a:prstGeom prst="rect">
            <a:avLst/>
          </a:prstGeom>
          <a:gradFill rotWithShape="0">
            <a:gsLst>
              <a:gs pos="0">
                <a:srgbClr val="2f0075"/>
              </a:gs>
              <a:gs pos="100000">
                <a:srgbClr val="6600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4952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3434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4724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3320" y="54086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te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038480"/>
            <a:ext cx="914400" cy="914400"/>
          </a:xfrm>
          <a:prstGeom prst="rect">
            <a:avLst/>
          </a:prstGeom>
          <a:gradFill rotWithShape="0">
            <a:gsLst>
              <a:gs pos="0">
                <a:srgbClr val="2f0075"/>
              </a:gs>
              <a:gs pos="100000">
                <a:srgbClr val="6600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4419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4648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419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4038480"/>
            <a:ext cx="914400" cy="914400"/>
          </a:xfrm>
          <a:prstGeom prst="rect">
            <a:avLst/>
          </a:prstGeom>
          <a:gradFill rotWithShape="0">
            <a:gsLst>
              <a:gs pos="0">
                <a:srgbClr val="2f0075"/>
              </a:gs>
              <a:gs pos="100000">
                <a:srgbClr val="6600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572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4572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038480"/>
            <a:ext cx="914400" cy="914400"/>
          </a:xfrm>
          <a:prstGeom prst="rect">
            <a:avLst/>
          </a:prstGeom>
          <a:gradFill rotWithShape="0">
            <a:gsLst>
              <a:gs pos="0">
                <a:srgbClr val="2f0075"/>
              </a:gs>
              <a:gs pos="100000">
                <a:srgbClr val="6600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560" y="5119920"/>
            <a:ext cx="12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ter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41560" y="5104080"/>
            <a:ext cx="14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know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ter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4990680" y="4076640"/>
            <a:ext cx="152280" cy="2057400"/>
          </a:xfrm>
          <a:custGeom>
            <a:avLst/>
            <a:gdLst>
              <a:gd name="textAreaLeft" fmla="*/ 0 w 152280"/>
              <a:gd name="textAreaRight" fmla="*/ 106920 w 15228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971440" y="2895480"/>
            <a:ext cx="1219320" cy="76212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971800"/>
            <a:ext cx="1143000" cy="68580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733920"/>
            <a:ext cx="4267080" cy="22860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5240" y="29707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5640" y="29707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8:15:31Z</dcterms:created>
  <dc:creator>McGuinness</dc:creator>
  <dc:description/>
  <dc:language>en-US</dc:language>
  <cp:lastModifiedBy>lee porter</cp:lastModifiedBy>
  <dcterms:modified xsi:type="dcterms:W3CDTF">2001-10-24T17:23:27Z</dcterms:modified>
  <cp:revision>19</cp:revision>
  <dc:subject/>
  <dc:title>Sense-Making and Situational Awareness</dc:title>
</cp:coreProperties>
</file>