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DDD1-CFC5-4566-B8CF-D7F1AB30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52A6-667E-4FE7-8A96-5EC776B5C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06C0-0CC3-4CBB-93D1-2D3A452C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6668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D46C-E92D-4271-8C50-B869E494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B10F-7DC8-4BBD-A97C-6238515E1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168-8DAC-4BA0-87F4-FE680416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430-C129-4290-8797-99001599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59EA-3377-49DA-A282-FA5A004A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-1116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6497-4BF1-41AE-A9CD-7BC5F825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825E-802A-4BFA-ABFA-05C61A86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6668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86A-07BE-4AFC-86D6-B116E0EB5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6668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AB89-6B4F-4EA5-91F3-3B4630C3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1acb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1E913-B0AD-4CC8-8E3C-49CC9A61B8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brlogo" descr=""/>
          <p:cNvPicPr/>
          <p:nvPr/>
        </p:nvPicPr>
        <p:blipFill>
          <a:blip r:embed="rId2"/>
          <a:stretch/>
        </p:blipFill>
        <p:spPr>
          <a:xfrm>
            <a:off x="0" y="0"/>
            <a:ext cx="820800" cy="825480"/>
          </a:xfrm>
          <a:prstGeom prst="rect">
            <a:avLst/>
          </a:prstGeom>
          <a:ln w="0">
            <a:noFill/>
          </a:ln>
        </p:spPr>
      </p:pic>
      <p:pic>
        <p:nvPicPr>
          <p:cNvPr id="6" name="ccrp_logo_2x2" descr=""/>
          <p:cNvPicPr/>
          <p:nvPr/>
        </p:nvPicPr>
        <p:blipFill>
          <a:blip r:embed="rId3"/>
          <a:stretch/>
        </p:blipFill>
        <p:spPr>
          <a:xfrm>
            <a:off x="8218440" y="9360"/>
            <a:ext cx="828720" cy="8287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0" y="866880"/>
            <a:ext cx="9144000" cy="0"/>
          </a:xfrm>
          <a:prstGeom prst="line">
            <a:avLst/>
          </a:prstGeom>
          <a:ln w="57240">
            <a:solidFill>
              <a:srgbClr val="0cae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nalyses of Selective Military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Cas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2381400"/>
            <a:ext cx="6400800" cy="15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pared f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CRP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Symposiu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-25 October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380960" y="3589200"/>
            <a:ext cx="6191280" cy="30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pared b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vidence Based Research,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ichard E. Hayes, Ph.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evana M. Allman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John R. M. McDani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ara N. Christi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elyvin F. Murph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ric J. Cochran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ristina M. Thomp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tacey R. Lakind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lliam S. Woo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gnitive Inpu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97080"/>
            <a:ext cx="6400800" cy="14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otions, beliefs, cognitive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959280"/>
            <a:ext cx="7238880" cy="230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ong indication that cognitive inputs were important across all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ior knowledge was relatively less important th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motions, beliefs and cognitive f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ental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7277040" y="1757160"/>
            <a:ext cx="1876320" cy="17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25      1.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87      1.3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9      1.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91320" y="1919160"/>
            <a:ext cx="1526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34280" y="2214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46120" y="1197000"/>
            <a:ext cx="7462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what extent were emotions, prior knowledge, and mental models importa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6705720" y="838080"/>
            <a:ext cx="2286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64*    1.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7      1.4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7      1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1      1.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s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685800" y="1447920"/>
            <a:ext cx="6338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ver all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ended to go ri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data collec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ut together appropriate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 and driving factors were sha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 was put in a form that facilitated aware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04840" y="5527800"/>
            <a:ext cx="69184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ormation systems generally tended to do their jo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91440" y="1236600"/>
            <a:ext cx="150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70560" y="1486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74080" y="1398600"/>
            <a:ext cx="17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8      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534440" y="1009800"/>
            <a:ext cx="114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27960" y="6164280"/>
            <a:ext cx="44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Significantly different from the overall 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rst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ver all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ended to go wro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 of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ness of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5720" y="838080"/>
            <a:ext cx="2286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7*    1.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78*    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90*    1.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74080" y="13986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8      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34440" y="1009800"/>
            <a:ext cx="114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15120" y="1236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29400" y="6164280"/>
            <a:ext cx="374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* Significantly below the overall me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705720" y="838080"/>
            <a:ext cx="2286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     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7      1.5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7      1.3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5      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15      1.4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07      1.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ical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ver all iss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 appropriately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 appropriately sh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lity plan develop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ed awareness correctly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s made of the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74080" y="13986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28      1.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178760" y="12366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31200" y="1009800"/>
            <a:ext cx="114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Most Strongly Differentiate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ccesses From Failu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51000" y="1236240"/>
            <a:ext cx="7238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d the individuals develop appropriate S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de of the situ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the data put together appropriate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the information put in a form that facilitated awaren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re the decision and driving factors sha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 shared awareness correctly understoo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05720" y="1447920"/>
            <a:ext cx="2286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su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f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7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6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91520" y="1619280"/>
            <a:ext cx="114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010280" y="19051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48520" y="1619280"/>
            <a:ext cx="12384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638000"/>
            <a:ext cx="777240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gnitive inputs are important elements and must be addressed for successful milita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overall performance tended to be things within the information systems, or supported by the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kest elements tended to be collaborative processes and ability to synchron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iation between success and failure tended to focus on situation awareness, understanding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and sharing decisions and driving 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is contin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03080"/>
            <a:ext cx="7772400" cy="42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loratory empirical analysis of milita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order to shed light 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arts of the process tend to go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parts of the process tend to go ba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ination of the militar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 to identify elements associated with success and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07920"/>
            <a:ext cx="9144000" cy="298944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891040"/>
            <a:ext cx="9144000" cy="966960"/>
          </a:xfrm>
          <a:prstGeom prst="rect">
            <a:avLst/>
          </a:prstGeom>
          <a:solidFill>
            <a:srgbClr val="93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881520"/>
            <a:ext cx="9144000" cy="20113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99480" y="427824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020080" y="2765520"/>
            <a:ext cx="11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g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115480" y="5938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hysical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85280" y="62611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s/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47080" y="53640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(represen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60880" y="4700520"/>
            <a:ext cx="27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tion (data in con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058840" y="5735520"/>
            <a:ext cx="0" cy="45576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058840" y="4987440"/>
            <a:ext cx="0" cy="41292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11640" y="2735280"/>
            <a:ext cx="1608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94640" y="2239920"/>
            <a:ext cx="280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594400" y="2554200"/>
            <a:ext cx="87768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5720" y="3070080"/>
            <a:ext cx="360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62576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9560" y="4545000"/>
            <a:ext cx="1494000" cy="10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fo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con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32680" y="6400800"/>
            <a:ext cx="7567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6" idx="1"/>
            <a:endCxn id="55" idx="3"/>
          </p:cNvCxnSpPr>
          <p:nvPr/>
        </p:nvCxnSpPr>
        <p:spPr>
          <a:xfrm flipH="1" flipV="1">
            <a:off x="2831760" y="6428880"/>
            <a:ext cx="4294800" cy="13104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68" name=""/>
          <p:cNvSpPr/>
          <p:nvPr/>
        </p:nvSpPr>
        <p:spPr>
          <a:xfrm>
            <a:off x="6947280" y="3063960"/>
            <a:ext cx="1105200" cy="121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5803920"/>
            <a:ext cx="149868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792760" y="3427560"/>
            <a:ext cx="4446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53160" y="14526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d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53960" y="25081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35400">
            <a:off x="3352320" y="3430440"/>
            <a:ext cx="990720" cy="274680"/>
          </a:xfrm>
          <a:prstGeom prst="leftArrow">
            <a:avLst>
              <a:gd name="adj1" fmla="val 50000"/>
              <a:gd name="adj2" fmla="val 9017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37320" y="2820960"/>
            <a:ext cx="0" cy="222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504200" y="4329000"/>
            <a:ext cx="0" cy="220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515360" y="5614920"/>
            <a:ext cx="0" cy="20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2859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990720" y="1239840"/>
            <a:ext cx="1114200" cy="946440"/>
            <a:chOff x="990720" y="1239840"/>
            <a:chExt cx="1114200" cy="946440"/>
          </a:xfrm>
        </p:grpSpPr>
        <p:sp>
          <p:nvSpPr>
            <p:cNvPr id="79" name=""/>
            <p:cNvSpPr/>
            <p:nvPr/>
          </p:nvSpPr>
          <p:spPr>
            <a:xfrm>
              <a:off x="990720" y="1239840"/>
              <a:ext cx="111420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18800" y="1325160"/>
              <a:ext cx="914040" cy="81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 rot="10856400">
            <a:off x="1168200" y="2339640"/>
            <a:ext cx="555480" cy="2682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308800">
            <a:off x="3567240" y="2776680"/>
            <a:ext cx="1066680" cy="274320"/>
          </a:xfrm>
          <a:prstGeom prst="leftArrow">
            <a:avLst>
              <a:gd name="adj1" fmla="val 50000"/>
              <a:gd name="adj2" fmla="val 9721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26160" y="6157800"/>
            <a:ext cx="1800" cy="20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05400" y="2871720"/>
            <a:ext cx="2257200" cy="1552680"/>
          </a:xfrm>
          <a:prstGeom prst="cloudCallout">
            <a:avLst>
              <a:gd name="adj1" fmla="val -43601"/>
              <a:gd name="adj2" fmla="val 6605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87920" y="3205080"/>
            <a:ext cx="22352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ological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47600" y="1712880"/>
            <a:ext cx="8766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2118000">
            <a:off x="3352320" y="4304880"/>
            <a:ext cx="1100160" cy="274680"/>
          </a:xfrm>
          <a:prstGeom prst="leftArrow">
            <a:avLst>
              <a:gd name="adj1" fmla="val 50000"/>
              <a:gd name="adj2" fmla="val 100131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5653080" y="4431960"/>
            <a:ext cx="1187280" cy="312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6829560" y="2392200"/>
            <a:ext cx="0" cy="20512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6528960" y="2165400"/>
            <a:ext cx="312840" cy="226800"/>
          </a:xfrm>
          <a:prstGeom prst="line">
            <a:avLst/>
          </a:prstGeom>
          <a:ln w="316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971720" y="1134360"/>
            <a:ext cx="2259000" cy="1524600"/>
            <a:chOff x="1971720" y="1134360"/>
            <a:chExt cx="2259000" cy="1524600"/>
          </a:xfrm>
        </p:grpSpPr>
        <p:sp>
          <p:nvSpPr>
            <p:cNvPr id="92" name=""/>
            <p:cNvSpPr/>
            <p:nvPr/>
          </p:nvSpPr>
          <p:spPr>
            <a:xfrm>
              <a:off x="2009880" y="1165320"/>
              <a:ext cx="1442880" cy="853920"/>
            </a:xfrm>
            <a:custGeom>
              <a:avLst/>
              <a:gdLst/>
              <a:ahLst/>
              <a:rect l="l" t="t" r="r" b="b"/>
              <a:pathLst>
                <a:path w="982" h="502">
                  <a:moveTo>
                    <a:pt x="982" y="102"/>
                  </a:moveTo>
                  <a:cubicBezTo>
                    <a:pt x="982" y="68"/>
                    <a:pt x="982" y="34"/>
                    <a:pt x="982" y="0"/>
                  </a:cubicBezTo>
                  <a:lnTo>
                    <a:pt x="0" y="0"/>
                  </a:lnTo>
                  <a:lnTo>
                    <a:pt x="0" y="502"/>
                  </a:lnTo>
                  <a:lnTo>
                    <a:pt x="153" y="502"/>
                  </a:lnTo>
                  <a:lnTo>
                    <a:pt x="153" y="109"/>
                  </a:lnTo>
                  <a:lnTo>
                    <a:pt x="982" y="102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1971720" y="1359000"/>
              <a:ext cx="2259000" cy="1299960"/>
              <a:chOff x="1971720" y="1359000"/>
              <a:chExt cx="2259000" cy="1299960"/>
            </a:xfrm>
          </p:grpSpPr>
          <p:sp>
            <p:nvSpPr>
              <p:cNvPr id="94" name=""/>
              <p:cNvSpPr/>
              <p:nvPr/>
            </p:nvSpPr>
            <p:spPr>
              <a:xfrm>
                <a:off x="2533680" y="2343240"/>
                <a:ext cx="533520" cy="315720"/>
              </a:xfrm>
              <a:prstGeom prst="upArrow">
                <a:avLst>
                  <a:gd name="adj1" fmla="val 50000"/>
                  <a:gd name="adj2" fmla="val 25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73320" y="1362240"/>
                <a:ext cx="2057400" cy="11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“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Deep” understand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of situa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use and eff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emporal rela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ynamic futu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pportunities &amp; Risk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80000"/>
                  </a:lnSpc>
                  <a:buClr>
                    <a:srgbClr val="000000"/>
                  </a:buClr>
                  <a:buFont typeface="Times New Roman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39920" y="1359000"/>
                <a:ext cx="1752480" cy="9666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971720" y="1457280"/>
                <a:ext cx="228600" cy="3808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2368080" y="113436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S h a r e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038480" y="1154160"/>
            <a:ext cx="1923840" cy="1882800"/>
            <a:chOff x="4038480" y="1154160"/>
            <a:chExt cx="1923840" cy="1882800"/>
          </a:xfrm>
        </p:grpSpPr>
        <p:sp>
          <p:nvSpPr>
            <p:cNvPr id="100" name=""/>
            <p:cNvSpPr/>
            <p:nvPr/>
          </p:nvSpPr>
          <p:spPr>
            <a:xfrm>
              <a:off x="4132440" y="1154160"/>
              <a:ext cx="1374480" cy="958680"/>
            </a:xfrm>
            <a:custGeom>
              <a:avLst/>
              <a:gdLst/>
              <a:ahLst/>
              <a:rect l="l" t="t" r="r" b="b"/>
              <a:pathLst>
                <a:path w="866" h="604">
                  <a:moveTo>
                    <a:pt x="866" y="175"/>
                  </a:moveTo>
                  <a:lnTo>
                    <a:pt x="866" y="0"/>
                  </a:lnTo>
                  <a:lnTo>
                    <a:pt x="0" y="0"/>
                  </a:lnTo>
                  <a:lnTo>
                    <a:pt x="0" y="604"/>
                  </a:lnTo>
                  <a:lnTo>
                    <a:pt x="117" y="597"/>
                  </a:lnTo>
                  <a:lnTo>
                    <a:pt x="117" y="175"/>
                  </a:lnTo>
                  <a:lnTo>
                    <a:pt x="866" y="175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6000" y="116928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S h a r e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038480" y="1397160"/>
              <a:ext cx="1923840" cy="1639800"/>
              <a:chOff x="4038480" y="1397160"/>
              <a:chExt cx="1923840" cy="1639800"/>
            </a:xfrm>
          </p:grpSpPr>
          <p:sp>
            <p:nvSpPr>
              <p:cNvPr id="103" name=""/>
              <p:cNvSpPr/>
              <p:nvPr/>
            </p:nvSpPr>
            <p:spPr>
              <a:xfrm>
                <a:off x="4524480" y="2495520"/>
                <a:ext cx="264960" cy="541440"/>
              </a:xfrm>
              <a:prstGeom prst="upArrow">
                <a:avLst>
                  <a:gd name="adj1" fmla="val 50000"/>
                  <a:gd name="adj2" fmla="val 5108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4275000" y="1397160"/>
                <a:ext cx="1687320" cy="1037160"/>
                <a:chOff x="4275000" y="1397160"/>
                <a:chExt cx="1687320" cy="10371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275000" y="1397160"/>
                  <a:ext cx="1687320" cy="103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ensemaking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Valu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nticipated dynamic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ut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buClr>
                      <a:srgbClr val="000000"/>
                    </a:buClr>
                    <a:buFont typeface="Times New Roman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lternatives perceived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314600" y="1433520"/>
                  <a:ext cx="1523880" cy="9903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" name=""/>
              <p:cNvSpPr/>
              <p:nvPr/>
            </p:nvSpPr>
            <p:spPr>
              <a:xfrm>
                <a:off x="4038480" y="1643040"/>
                <a:ext cx="228600" cy="3808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8" name=""/>
          <p:cNvGrpSpPr/>
          <p:nvPr/>
        </p:nvGrpSpPr>
        <p:grpSpPr>
          <a:xfrm>
            <a:off x="6880320" y="1156680"/>
            <a:ext cx="2225520" cy="1659960"/>
            <a:chOff x="6880320" y="1156680"/>
            <a:chExt cx="2225520" cy="1659960"/>
          </a:xfrm>
        </p:grpSpPr>
        <p:sp>
          <p:nvSpPr>
            <p:cNvPr id="109" name=""/>
            <p:cNvSpPr/>
            <p:nvPr/>
          </p:nvSpPr>
          <p:spPr>
            <a:xfrm>
              <a:off x="7112160" y="1414440"/>
              <a:ext cx="1993680" cy="1402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ommand Int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oices among alternativ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luding contingent choi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oices to 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oices to seek infor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oices to consult 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880320" y="1166760"/>
              <a:ext cx="1778040" cy="1281240"/>
            </a:xfrm>
            <a:custGeom>
              <a:avLst/>
              <a:gdLst/>
              <a:ahLst/>
              <a:rect l="l" t="t" r="r" b="b"/>
              <a:pathLst>
                <a:path w="1120" h="807">
                  <a:moveTo>
                    <a:pt x="1120" y="160"/>
                  </a:moveTo>
                  <a:cubicBezTo>
                    <a:pt x="1120" y="107"/>
                    <a:pt x="1120" y="53"/>
                    <a:pt x="1120" y="0"/>
                  </a:cubicBezTo>
                  <a:lnTo>
                    <a:pt x="0" y="0"/>
                  </a:lnTo>
                  <a:lnTo>
                    <a:pt x="7" y="800"/>
                  </a:lnTo>
                  <a:lnTo>
                    <a:pt x="146" y="807"/>
                  </a:lnTo>
                  <a:lnTo>
                    <a:pt x="146" y="160"/>
                  </a:lnTo>
                  <a:lnTo>
                    <a:pt x="1120" y="16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95560" y="1156680"/>
              <a:ext cx="837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cc0000"/>
                  </a:solidFill>
                  <a:latin typeface="Times New Roman"/>
                </a:rPr>
                <a:t>S h a r e 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5829480" y="1244520"/>
            <a:ext cx="1218960" cy="274680"/>
          </a:xfrm>
          <a:custGeom>
            <a:avLst/>
            <a:gdLst>
              <a:gd name="textAreaLeft" fmla="*/ 225000 w 1218960"/>
              <a:gd name="textAreaRight" fmla="*/ 834840 w 121896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2" hR="21600" stAng="10800000" swAng="5400000"/>
                <a:lnTo>
                  <a:pt x="10800" y="0"/>
                </a:lnTo>
                <a:arcTo wR="7982" hR="21600" stAng="-5400000" swAng="2383634"/>
                <a:lnTo>
                  <a:pt x="20912" y="12824"/>
                </a:lnTo>
                <a:lnTo>
                  <a:pt x="17372" y="21600"/>
                </a:lnTo>
                <a:lnTo>
                  <a:pt x="12456" y="12824"/>
                </a:lnTo>
                <a:lnTo>
                  <a:pt x="15275" y="12824"/>
                </a:lnTo>
                <a:arcTo wR="7982" hR="21600" stAng="-3016366" swAng="-2156140"/>
                <a:lnTo>
                  <a:pt x="9391" y="339"/>
                </a:lnTo>
                <a:arcTo wR="7982" hR="21600" stAng="-5627495" swAng="-5172505"/>
                <a:close/>
              </a:path>
              <a:path fill="darkenLess" w="21600" h="21600">
                <a:moveTo>
                  <a:pt x="0" y="21600"/>
                </a:moveTo>
                <a:arcTo wR="7982" hR="21600" stAng="10800000" swAng="5400000"/>
                <a:lnTo>
                  <a:pt x="7982" y="0"/>
                </a:lnTo>
                <a:arcTo wR="7982" hR="21600" stAng="-5400000" swAng="227495"/>
                <a:lnTo>
                  <a:pt x="9391" y="339"/>
                </a:lnTo>
                <a:arcTo wR="7982" hR="21600" stAng="-5627495" swAng="-5172505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05440" y="1725480"/>
            <a:ext cx="1219320" cy="344520"/>
          </a:xfrm>
          <a:custGeom>
            <a:avLst/>
            <a:gdLst>
              <a:gd name="textAreaLeft" fmla="*/ 229680 w 1219320"/>
              <a:gd name="textAreaRight" fmla="*/ 801360 w 121932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45" hR="21600" stAng="10800000" swAng="-5400000"/>
                <a:lnTo>
                  <a:pt x="10125" y="21600"/>
                </a:lnTo>
                <a:arcTo wR="8145" hR="21600" stAng="5400000" swAng="-2810673"/>
                <a:lnTo>
                  <a:pt x="21134" y="7200"/>
                </a:lnTo>
                <a:lnTo>
                  <a:pt x="17280" y="0"/>
                </a:lnTo>
                <a:lnTo>
                  <a:pt x="12494" y="7200"/>
                </a:lnTo>
                <a:lnTo>
                  <a:pt x="15824" y="7200"/>
                </a:lnTo>
                <a:arcTo wR="8145" hR="21600" stAng="2589327" swAng="2652046"/>
                <a:lnTo>
                  <a:pt x="9135" y="21440"/>
                </a:lnTo>
                <a:arcTo wR="8145" hR="21600" stAng="5558628" swAng="5241372"/>
                <a:close/>
              </a:path>
              <a:path fill="darkenLess" w="21600" h="21600">
                <a:moveTo>
                  <a:pt x="0" y="0"/>
                </a:moveTo>
                <a:arcTo wR="8145" hR="21600" stAng="10800000" swAng="-5400000"/>
                <a:lnTo>
                  <a:pt x="10125" y="21600"/>
                </a:lnTo>
                <a:arcTo wR="8145" hR="21600" stAng="5400000" swAng="158628"/>
                <a:lnTo>
                  <a:pt x="9135" y="21440"/>
                </a:lnTo>
                <a:arcTo wR="8145" hR="21600" stAng="5558628" swAng="5241372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62120" y="2712240"/>
            <a:ext cx="2476440" cy="1962720"/>
            <a:chOff x="762120" y="2712240"/>
            <a:chExt cx="2476440" cy="1962720"/>
          </a:xfrm>
        </p:grpSpPr>
        <p:sp>
          <p:nvSpPr>
            <p:cNvPr id="115" name=""/>
            <p:cNvSpPr/>
            <p:nvPr/>
          </p:nvSpPr>
          <p:spPr>
            <a:xfrm>
              <a:off x="1174320" y="3254400"/>
              <a:ext cx="273600" cy="11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900" spc="-1" strike="noStrike">
                  <a:solidFill>
                    <a:srgbClr val="3333cc"/>
                  </a:solidFill>
                  <a:latin typeface="Times New Roman"/>
                </a:rPr>
                <a:t>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762120" y="2712240"/>
              <a:ext cx="2476440" cy="1962720"/>
              <a:chOff x="762120" y="2712240"/>
              <a:chExt cx="2476440" cy="1962720"/>
            </a:xfrm>
          </p:grpSpPr>
          <p:sp>
            <p:nvSpPr>
              <p:cNvPr id="117" name=""/>
              <p:cNvSpPr/>
              <p:nvPr/>
            </p:nvSpPr>
            <p:spPr>
              <a:xfrm>
                <a:off x="2628360" y="3795840"/>
                <a:ext cx="1760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Times New Roman"/>
                  </a:rPr>
                  <a:t>Red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762120" y="2712240"/>
                <a:ext cx="2476440" cy="1962720"/>
                <a:chOff x="762120" y="2712240"/>
                <a:chExt cx="2476440" cy="196272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1631160" y="3828960"/>
                  <a:ext cx="200520" cy="12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Times New Roman"/>
                    </a:rPr>
                    <a:t>Bl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0" name=""/>
                <p:cNvGrpSpPr/>
                <p:nvPr/>
              </p:nvGrpSpPr>
              <p:grpSpPr>
                <a:xfrm>
                  <a:off x="762120" y="2712240"/>
                  <a:ext cx="2476440" cy="1962720"/>
                  <a:chOff x="762120" y="2712240"/>
                  <a:chExt cx="2476440" cy="1962720"/>
                </a:xfrm>
              </p:grpSpPr>
              <p:sp>
                <p:nvSpPr>
                  <p:cNvPr id="121" name=""/>
                  <p:cNvSpPr/>
                  <p:nvPr/>
                </p:nvSpPr>
                <p:spPr>
                  <a:xfrm>
                    <a:off x="762120" y="2722320"/>
                    <a:ext cx="2077920" cy="168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9" h="1062">
                        <a:moveTo>
                          <a:pt x="1309" y="138"/>
                        </a:moveTo>
                        <a:cubicBezTo>
                          <a:pt x="1309" y="92"/>
                          <a:pt x="1309" y="46"/>
                          <a:pt x="1309" y="0"/>
                        </a:cubicBezTo>
                        <a:lnTo>
                          <a:pt x="0" y="0"/>
                        </a:lnTo>
                        <a:lnTo>
                          <a:pt x="0" y="1062"/>
                        </a:lnTo>
                        <a:lnTo>
                          <a:pt x="131" y="1062"/>
                        </a:lnTo>
                        <a:lnTo>
                          <a:pt x="138" y="138"/>
                        </a:lnTo>
                        <a:lnTo>
                          <a:pt x="1309" y="138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38160">
                    <a:solidFill>
                      <a:srgbClr val="969696"/>
                    </a:solidFill>
                    <a:prstDash val="sysDot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" name=""/>
                  <p:cNvSpPr/>
                  <p:nvPr/>
                </p:nvSpPr>
                <p:spPr>
                  <a:xfrm>
                    <a:off x="1510920" y="2712240"/>
                    <a:ext cx="837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cc0000"/>
                        </a:solidFill>
                        <a:latin typeface="Times New Roman"/>
                      </a:rPr>
                      <a:t>S h a r e d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23" name=""/>
                  <p:cNvGrpSpPr/>
                  <p:nvPr/>
                </p:nvGrpSpPr>
                <p:grpSpPr>
                  <a:xfrm>
                    <a:off x="974880" y="2955600"/>
                    <a:ext cx="2263680" cy="1719360"/>
                    <a:chOff x="974880" y="2955600"/>
                    <a:chExt cx="2263680" cy="1719360"/>
                  </a:xfrm>
                </p:grpSpPr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2163960" y="3928680"/>
                      <a:ext cx="333360" cy="303480"/>
                    </a:xfrm>
                    <a:prstGeom prst="ellipse">
                      <a:avLst/>
                    </a:prstGeom>
                    <a:noFill/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785960" y="3330360"/>
                      <a:ext cx="736920" cy="1526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0" rIns="0" tIns="0" bIns="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pabilities &amp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573200" y="3713040"/>
                      <a:ext cx="335160" cy="303120"/>
                    </a:xfrm>
                    <a:prstGeom prst="ellipse">
                      <a:avLst/>
                    </a:prstGeom>
                    <a:solidFill>
                      <a:srgbClr val="3366ff">
                        <a:alpha val="50000"/>
                      </a:srgbClr>
                    </a:solidFill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27" name=""/>
                    <p:cNvGrpSpPr/>
                    <p:nvPr/>
                  </p:nvGrpSpPr>
                  <p:grpSpPr>
                    <a:xfrm>
                      <a:off x="974880" y="2955600"/>
                      <a:ext cx="2263680" cy="1719360"/>
                      <a:chOff x="974880" y="2955600"/>
                      <a:chExt cx="2263680" cy="1719360"/>
                    </a:xfrm>
                  </p:grpSpPr>
                  <p:sp>
                    <p:nvSpPr>
                      <p:cNvPr id="128" name=""/>
                      <p:cNvSpPr/>
                      <p:nvPr/>
                    </p:nvSpPr>
                    <p:spPr>
                      <a:xfrm>
                        <a:off x="2192400" y="4043160"/>
                        <a:ext cx="258840" cy="2437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0" rIns="0" tIns="0" bIns="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8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ther</a:t>
                        </a:r>
                        <a:endPara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9" name=""/>
                      <p:cNvSpPr/>
                      <p:nvPr/>
                    </p:nvSpPr>
                    <p:spPr>
                      <a:xfrm>
                        <a:off x="1411560" y="3298680"/>
                        <a:ext cx="1525320" cy="104940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0" name=""/>
                      <p:cNvSpPr/>
                      <p:nvPr/>
                    </p:nvSpPr>
                    <p:spPr>
                      <a:xfrm>
                        <a:off x="1785240" y="3452760"/>
                        <a:ext cx="509760" cy="1526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Intentions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1" name=""/>
                      <p:cNvSpPr/>
                      <p:nvPr/>
                    </p:nvSpPr>
                    <p:spPr>
                      <a:xfrm>
                        <a:off x="2543400" y="3684240"/>
                        <a:ext cx="334800" cy="304920"/>
                      </a:xfrm>
                      <a:prstGeom prst="ellipse">
                        <a:avLst/>
                      </a:prstGeom>
                      <a:solidFill>
                        <a:srgbClr val="ff0000">
                          <a:alpha val="50000"/>
                        </a:srgbClr>
                      </a:solidFill>
                      <a:ln w="381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2" name=""/>
                      <p:cNvSpPr/>
                      <p:nvPr/>
                    </p:nvSpPr>
                    <p:spPr>
                      <a:xfrm>
                        <a:off x="1811160" y="4389120"/>
                        <a:ext cx="692640" cy="1375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0" rIns="0" tIns="0" bIns="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Time &amp; Spac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3" name=""/>
                      <p:cNvSpPr/>
                      <p:nvPr/>
                    </p:nvSpPr>
                    <p:spPr>
                      <a:xfrm>
                        <a:off x="974880" y="3509640"/>
                        <a:ext cx="377280" cy="7642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M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i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s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s &amp;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i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o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4" name=""/>
                      <p:cNvSpPr/>
                      <p:nvPr/>
                    </p:nvSpPr>
                    <p:spPr>
                      <a:xfrm>
                        <a:off x="2905560" y="3416040"/>
                        <a:ext cx="303840" cy="114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v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i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r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o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m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e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n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  <a:p>
                        <a:pPr>
                          <a:lnSpc>
                            <a:spcPct val="7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 </a:t>
                        </a: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t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5" name=""/>
                      <p:cNvSpPr/>
                      <p:nvPr/>
                    </p:nvSpPr>
                    <p:spPr>
                      <a:xfrm rot="18754800">
                        <a:off x="1659240" y="3563640"/>
                        <a:ext cx="113940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6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Uncertainty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6" name=""/>
                      <p:cNvSpPr/>
                      <p:nvPr/>
                    </p:nvSpPr>
                    <p:spPr>
                      <a:xfrm>
                        <a:off x="1745280" y="3037320"/>
                        <a:ext cx="706680" cy="2311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56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900" spc="-1" strike="noStrike">
                            <a:solidFill>
                              <a:srgbClr val="3333cc"/>
                            </a:solidFill>
                            <a:latin typeface="Times New Roman"/>
                          </a:rPr>
                          <a:t>Awareness</a:t>
                        </a:r>
                        <a:endPara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7" name=""/>
                      <p:cNvSpPr/>
                      <p:nvPr/>
                    </p:nvSpPr>
                    <p:spPr>
                      <a:xfrm>
                        <a:off x="986040" y="2955600"/>
                        <a:ext cx="2252520" cy="1719360"/>
                      </a:xfrm>
                      <a:prstGeom prst="rect">
                        <a:avLst/>
                      </a:prstGeom>
                      <a:noFill/>
                      <a:ln w="50760">
                        <a:solidFill>
                          <a:srgbClr val="000000"/>
                        </a:solidFill>
                        <a:prstDash val="sysDot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138" name=""/>
          <p:cNvSpPr/>
          <p:nvPr/>
        </p:nvSpPr>
        <p:spPr>
          <a:xfrm rot="1451400">
            <a:off x="4435560" y="4238280"/>
            <a:ext cx="747720" cy="547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72160" y="4591080"/>
            <a:ext cx="604800" cy="75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 Sup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odels &amp; To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95960" y="4759200"/>
            <a:ext cx="1365120" cy="47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Conceptual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5891040"/>
            <a:ext cx="9144000" cy="966960"/>
          </a:xfrm>
          <a:prstGeom prst="rect">
            <a:avLst/>
          </a:prstGeom>
          <a:solidFill>
            <a:srgbClr val="93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892080"/>
            <a:ext cx="9144000" cy="2714760"/>
          </a:xfrm>
          <a:prstGeom prst="rect">
            <a:avLst/>
          </a:prstGeom>
          <a:solidFill>
            <a:srgbClr val="a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568680"/>
            <a:ext cx="9144000" cy="2324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23760"/>
            <a:ext cx="914400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94880" y="5191200"/>
            <a:ext cx="20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ata (represent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84920" y="4505400"/>
            <a:ext cx="271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formation (data in con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927920" y="3978360"/>
            <a:ext cx="124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956720" y="2568600"/>
            <a:ext cx="11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Cogni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039160" y="59389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Times New Roman"/>
              </a:rPr>
              <a:t>Physical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74040" y="6018120"/>
            <a:ext cx="144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bjects/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982880" y="5527440"/>
            <a:ext cx="0" cy="45540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982880" y="4847760"/>
            <a:ext cx="0" cy="412920"/>
          </a:xfrm>
          <a:prstGeom prst="line">
            <a:avLst/>
          </a:prstGeom>
          <a:ln w="3168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35680" y="2735280"/>
            <a:ext cx="1608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718320" y="2239920"/>
            <a:ext cx="2808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18080" y="2554200"/>
            <a:ext cx="8780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9760" y="3070080"/>
            <a:ext cx="36036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3078000"/>
            <a:ext cx="384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76320" y="162576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c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28640" y="1265400"/>
            <a:ext cx="2008080" cy="121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ices among alterna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ing contingent cho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ices to 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ices to seek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ices to consult 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2080" y="4359240"/>
            <a:ext cx="1494000" cy="1037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iv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s for sup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o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fforts to cons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056720" y="6400800"/>
            <a:ext cx="7567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51" idx="3"/>
          </p:cNvCxnSpPr>
          <p:nvPr/>
        </p:nvCxnSpPr>
        <p:spPr>
          <a:xfrm flipH="1" flipV="1">
            <a:off x="2720520" y="6186240"/>
            <a:ext cx="4330080" cy="3736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headEnd len="sm" type="oval" w="sm"/>
            <a:tailEnd len="sm" type="stealth" w="sm"/>
          </a:ln>
        </p:spPr>
      </p:cxnSp>
      <p:sp>
        <p:nvSpPr>
          <p:cNvPr id="164" name=""/>
          <p:cNvSpPr/>
          <p:nvPr/>
        </p:nvSpPr>
        <p:spPr>
          <a:xfrm>
            <a:off x="6860160" y="2809800"/>
            <a:ext cx="1105200" cy="1219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lan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s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a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he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gen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477120" y="5722920"/>
            <a:ext cx="149832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ynchron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16440" y="3427560"/>
            <a:ext cx="4446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676840" y="145260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Judgmen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838440" y="2508120"/>
            <a:ext cx="2285280" cy="1938240"/>
            <a:chOff x="838440" y="2508120"/>
            <a:chExt cx="2285280" cy="1938240"/>
          </a:xfrm>
        </p:grpSpPr>
        <p:sp>
          <p:nvSpPr>
            <p:cNvPr id="169" name=""/>
            <p:cNvSpPr/>
            <p:nvPr/>
          </p:nvSpPr>
          <p:spPr>
            <a:xfrm>
              <a:off x="2472480" y="3539520"/>
              <a:ext cx="176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18120" y="3575520"/>
              <a:ext cx="200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Blu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55600" y="3814920"/>
              <a:ext cx="258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Oth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838440" y="2508120"/>
              <a:ext cx="2285280" cy="1938240"/>
              <a:chOff x="838440" y="2508120"/>
              <a:chExt cx="2285280" cy="1938240"/>
            </a:xfrm>
          </p:grpSpPr>
          <p:sp>
            <p:nvSpPr>
              <p:cNvPr id="173" name=""/>
              <p:cNvSpPr/>
              <p:nvPr/>
            </p:nvSpPr>
            <p:spPr>
              <a:xfrm>
                <a:off x="1274400" y="3069720"/>
                <a:ext cx="1525320" cy="10501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027160" y="3700080"/>
                <a:ext cx="333000" cy="3034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648800" y="3101400"/>
                <a:ext cx="736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apabilitie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648080" y="3224520"/>
                <a:ext cx="509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nten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406600" y="3456360"/>
                <a:ext cx="334440" cy="303480"/>
              </a:xfrm>
              <a:prstGeom prst="ellipse">
                <a:avLst/>
              </a:prstGeom>
              <a:solidFill>
                <a:srgbClr val="ff0000">
                  <a:alpha val="50000"/>
                </a:srgbClr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74360" y="4161600"/>
                <a:ext cx="692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Time &amp; Spac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71200" y="2727360"/>
                <a:ext cx="2252520" cy="1719000"/>
              </a:xfrm>
              <a:prstGeom prst="rect">
                <a:avLst/>
              </a:prstGeom>
              <a:noFill/>
              <a:ln w="507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76720" y="2923560"/>
                <a:ext cx="11070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Opportunities &amp; Risk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1" name=""/>
              <p:cNvGrpSpPr/>
              <p:nvPr/>
            </p:nvGrpSpPr>
            <p:grpSpPr>
              <a:xfrm>
                <a:off x="838440" y="3138480"/>
                <a:ext cx="495000" cy="1147320"/>
                <a:chOff x="838440" y="3138480"/>
                <a:chExt cx="495000" cy="1147320"/>
              </a:xfrm>
            </p:grpSpPr>
            <p:sp>
              <p:nvSpPr>
                <p:cNvPr id="182" name=""/>
                <p:cNvSpPr/>
                <p:nvPr/>
              </p:nvSpPr>
              <p:spPr>
                <a:xfrm>
                  <a:off x="1059840" y="3138480"/>
                  <a:ext cx="273600" cy="114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C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r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t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838440" y="3281400"/>
                  <a:ext cx="37728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M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s &amp;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7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 </a:t>
                  </a:r>
                  <a:r>
                    <a:rPr b="1" lang="en-US" sz="900" spc="-1" strike="noStrike">
                      <a:solidFill>
                        <a:srgbClr val="3333cc"/>
                      </a:solidFill>
                      <a:latin typeface="Times New Roman"/>
                    </a:rPr>
                    <a:t>n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2768760" y="3187080"/>
                <a:ext cx="303840" cy="11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v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 </a:t>
                </a:r>
                <a:r>
                  <a:rPr b="1" lang="en-US" sz="900" spc="-1" strike="noStrike">
                    <a:solidFill>
                      <a:srgbClr val="3333cc"/>
                    </a:solidFill>
                    <a:latin typeface="Times New Roman"/>
                  </a:rPr>
                  <a:t>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1436400" y="3483720"/>
                <a:ext cx="336240" cy="304920"/>
                <a:chOff x="1436400" y="3483720"/>
                <a:chExt cx="336240" cy="30492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1436400" y="3483720"/>
                  <a:ext cx="336240" cy="304920"/>
                  <a:chOff x="1436400" y="3483720"/>
                  <a:chExt cx="336240" cy="30492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1436400" y="3483720"/>
                    <a:ext cx="336240" cy="304920"/>
                  </a:xfrm>
                  <a:prstGeom prst="rect">
                    <a:avLst/>
                  </a:prstGeom>
                  <a:solidFill>
                    <a:srgbClr val="33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1436400" y="3483720"/>
                    <a:ext cx="333360" cy="301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0" h="211">
                        <a:moveTo>
                          <a:pt x="105" y="0"/>
                        </a:moveTo>
                        <a:lnTo>
                          <a:pt x="94" y="1"/>
                        </a:lnTo>
                        <a:lnTo>
                          <a:pt x="84" y="2"/>
                        </a:lnTo>
                        <a:lnTo>
                          <a:pt x="64" y="8"/>
                        </a:lnTo>
                        <a:lnTo>
                          <a:pt x="46" y="18"/>
                        </a:lnTo>
                        <a:lnTo>
                          <a:pt x="31" y="31"/>
                        </a:lnTo>
                        <a:lnTo>
                          <a:pt x="18" y="46"/>
                        </a:lnTo>
                        <a:lnTo>
                          <a:pt x="8" y="64"/>
                        </a:lnTo>
                        <a:lnTo>
                          <a:pt x="2" y="84"/>
                        </a:lnTo>
                        <a:lnTo>
                          <a:pt x="1" y="94"/>
                        </a:lnTo>
                        <a:lnTo>
                          <a:pt x="0" y="105"/>
                        </a:lnTo>
                        <a:lnTo>
                          <a:pt x="1" y="116"/>
                        </a:lnTo>
                        <a:lnTo>
                          <a:pt x="2" y="127"/>
                        </a:lnTo>
                        <a:lnTo>
                          <a:pt x="8" y="146"/>
                        </a:lnTo>
                        <a:lnTo>
                          <a:pt x="18" y="164"/>
                        </a:lnTo>
                        <a:lnTo>
                          <a:pt x="31" y="180"/>
                        </a:lnTo>
                        <a:lnTo>
                          <a:pt x="46" y="193"/>
                        </a:lnTo>
                        <a:lnTo>
                          <a:pt x="64" y="203"/>
                        </a:lnTo>
                        <a:lnTo>
                          <a:pt x="84" y="209"/>
                        </a:lnTo>
                        <a:lnTo>
                          <a:pt x="94" y="210"/>
                        </a:lnTo>
                        <a:lnTo>
                          <a:pt x="105" y="211"/>
                        </a:lnTo>
                        <a:lnTo>
                          <a:pt x="116" y="210"/>
                        </a:lnTo>
                        <a:lnTo>
                          <a:pt x="126" y="209"/>
                        </a:lnTo>
                        <a:lnTo>
                          <a:pt x="146" y="203"/>
                        </a:lnTo>
                        <a:lnTo>
                          <a:pt x="164" y="193"/>
                        </a:lnTo>
                        <a:lnTo>
                          <a:pt x="179" y="180"/>
                        </a:lnTo>
                        <a:lnTo>
                          <a:pt x="192" y="164"/>
                        </a:lnTo>
                        <a:lnTo>
                          <a:pt x="202" y="146"/>
                        </a:lnTo>
                        <a:lnTo>
                          <a:pt x="208" y="127"/>
                        </a:lnTo>
                        <a:lnTo>
                          <a:pt x="209" y="116"/>
                        </a:lnTo>
                        <a:lnTo>
                          <a:pt x="210" y="105"/>
                        </a:lnTo>
                        <a:lnTo>
                          <a:pt x="209" y="94"/>
                        </a:lnTo>
                        <a:lnTo>
                          <a:pt x="208" y="84"/>
                        </a:lnTo>
                        <a:lnTo>
                          <a:pt x="202" y="64"/>
                        </a:lnTo>
                        <a:lnTo>
                          <a:pt x="192" y="46"/>
                        </a:lnTo>
                        <a:lnTo>
                          <a:pt x="179" y="31"/>
                        </a:lnTo>
                        <a:lnTo>
                          <a:pt x="164" y="18"/>
                        </a:lnTo>
                        <a:lnTo>
                          <a:pt x="146" y="8"/>
                        </a:lnTo>
                        <a:lnTo>
                          <a:pt x="126" y="2"/>
                        </a:lnTo>
                        <a:lnTo>
                          <a:pt x="116" y="1"/>
                        </a:lnTo>
                        <a:lnTo>
                          <a:pt x="105" y="0"/>
                        </a:lnTo>
                        <a:close/>
                      </a:path>
                    </a:pathLst>
                  </a:custGeom>
                  <a:solidFill>
                    <a:srgbClr val="3366ff">
                      <a:alpha val="50000"/>
                    </a:srgbClr>
                  </a:solidFill>
                  <a:ln w="0">
                    <a:solidFill>
                      <a:srgbClr val="ffffff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436400" y="3483720"/>
                    <a:ext cx="334800" cy="303120"/>
                  </a:xfrm>
                  <a:prstGeom prst="ellipse">
                    <a:avLst/>
                  </a:prstGeom>
                  <a:solidFill>
                    <a:srgbClr val="33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436400" y="3483720"/>
                    <a:ext cx="336240" cy="304920"/>
                  </a:xfrm>
                  <a:prstGeom prst="rect">
                    <a:avLst/>
                  </a:prstGeom>
                  <a:solidFill>
                    <a:srgbClr val="3366ff">
                      <a:alpha val="50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1" name=""/>
                <p:cNvSpPr/>
                <p:nvPr/>
              </p:nvSpPr>
              <p:spPr>
                <a:xfrm>
                  <a:off x="1436400" y="3483720"/>
                  <a:ext cx="334800" cy="303120"/>
                </a:xfrm>
                <a:prstGeom prst="ellipse">
                  <a:avLst/>
                </a:prstGeom>
                <a:solidFill>
                  <a:srgbClr val="3366ff">
                    <a:alpha val="50000"/>
                  </a:srgbClr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 rot="18754800">
                <a:off x="1522440" y="3335400"/>
                <a:ext cx="1139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3333cc"/>
                    </a:solidFill>
                    <a:latin typeface="Times New Roman"/>
                  </a:rPr>
                  <a:t>Uncertaint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278720" y="2508120"/>
                <a:ext cx="138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3300"/>
                    </a:solidFill>
                    <a:latin typeface="Times New Roman"/>
                  </a:rPr>
                  <a:t>Shared Awaren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 rot="35400">
            <a:off x="3276360" y="3430440"/>
            <a:ext cx="990360" cy="274680"/>
          </a:xfrm>
          <a:prstGeom prst="leftArrow">
            <a:avLst>
              <a:gd name="adj1" fmla="val 50000"/>
              <a:gd name="adj2" fmla="val 90138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29480" y="1725480"/>
            <a:ext cx="1218960" cy="344520"/>
          </a:xfrm>
          <a:custGeom>
            <a:avLst/>
            <a:gdLst>
              <a:gd name="textAreaLeft" fmla="*/ 229680 w 1218960"/>
              <a:gd name="textAreaRight" fmla="*/ 801360 w 121896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145" hR="21600" stAng="10800000" swAng="-5400000"/>
                <a:lnTo>
                  <a:pt x="10125" y="21600"/>
                </a:lnTo>
                <a:arcTo wR="8145" hR="21600" stAng="5400000" swAng="-2810673"/>
                <a:lnTo>
                  <a:pt x="21134" y="7200"/>
                </a:lnTo>
                <a:lnTo>
                  <a:pt x="17280" y="0"/>
                </a:lnTo>
                <a:lnTo>
                  <a:pt x="12494" y="7200"/>
                </a:lnTo>
                <a:lnTo>
                  <a:pt x="15824" y="7200"/>
                </a:lnTo>
                <a:arcTo wR="8145" hR="21600" stAng="2589327" swAng="2652046"/>
                <a:lnTo>
                  <a:pt x="9135" y="21440"/>
                </a:lnTo>
                <a:arcTo wR="8145" hR="21600" stAng="5558628" swAng="5241372"/>
                <a:close/>
              </a:path>
              <a:path fill="darkenLess" w="21600" h="21600">
                <a:moveTo>
                  <a:pt x="0" y="0"/>
                </a:moveTo>
                <a:arcTo wR="8145" hR="21600" stAng="10800000" swAng="-5400000"/>
                <a:lnTo>
                  <a:pt x="10125" y="21600"/>
                </a:lnTo>
                <a:arcTo wR="8145" hR="21600" stAng="5400000" swAng="158628"/>
                <a:lnTo>
                  <a:pt x="9135" y="21440"/>
                </a:lnTo>
                <a:arcTo wR="8145" hR="21600" stAng="5558628" swAng="5241372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752440" y="1244520"/>
            <a:ext cx="1219320" cy="274680"/>
          </a:xfrm>
          <a:custGeom>
            <a:avLst/>
            <a:gdLst>
              <a:gd name="textAreaLeft" fmla="*/ 224640 w 1219320"/>
              <a:gd name="textAreaRight" fmla="*/ 834480 w 1219320"/>
              <a:gd name="textAreaTop" fmla="*/ 36720 h 274680"/>
              <a:gd name="textAreaBottom" fmla="*/ 237960 h 274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982" hR="21600" stAng="10800000" swAng="5400000"/>
                <a:lnTo>
                  <a:pt x="10800" y="0"/>
                </a:lnTo>
                <a:arcTo wR="7982" hR="21600" stAng="-5400000" swAng="2383634"/>
                <a:lnTo>
                  <a:pt x="20912" y="12824"/>
                </a:lnTo>
                <a:lnTo>
                  <a:pt x="17372" y="21600"/>
                </a:lnTo>
                <a:lnTo>
                  <a:pt x="12456" y="12824"/>
                </a:lnTo>
                <a:lnTo>
                  <a:pt x="15275" y="12824"/>
                </a:lnTo>
                <a:arcTo wR="7982" hR="21600" stAng="-3016366" swAng="-2156140"/>
                <a:lnTo>
                  <a:pt x="9391" y="339"/>
                </a:lnTo>
                <a:arcTo wR="7982" hR="21600" stAng="-5627495" swAng="-5172505"/>
                <a:close/>
              </a:path>
              <a:path fill="darkenLess" w="21600" h="21600">
                <a:moveTo>
                  <a:pt x="0" y="21600"/>
                </a:moveTo>
                <a:arcTo wR="7982" hR="21600" stAng="10800000" swAng="5400000"/>
                <a:lnTo>
                  <a:pt x="7982" y="0"/>
                </a:lnTo>
                <a:arcTo wR="7982" hR="21600" stAng="-5400000" swAng="227495"/>
                <a:lnTo>
                  <a:pt x="9391" y="339"/>
                </a:lnTo>
                <a:arcTo wR="7982" hR="21600" stAng="-5627495" swAng="-5172505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39040" y="2486160"/>
            <a:ext cx="0" cy="3142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39040" y="4030560"/>
            <a:ext cx="0" cy="324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439040" y="54086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457360" y="2124000"/>
            <a:ext cx="533520" cy="36216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962520" y="145728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28592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4199040" y="1211400"/>
            <a:ext cx="1687320" cy="1037160"/>
            <a:chOff x="4199040" y="1211400"/>
            <a:chExt cx="1687320" cy="1037160"/>
          </a:xfrm>
        </p:grpSpPr>
        <p:sp>
          <p:nvSpPr>
            <p:cNvPr id="204" name=""/>
            <p:cNvSpPr/>
            <p:nvPr/>
          </p:nvSpPr>
          <p:spPr>
            <a:xfrm>
              <a:off x="4199040" y="1211400"/>
              <a:ext cx="1687320" cy="10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Times New Roman"/>
                </a:rPr>
                <a:t>Sensema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u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ticipated dynam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u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ternatives perceiv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38640" y="1247760"/>
              <a:ext cx="1523880" cy="990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085840" y="1219320"/>
            <a:ext cx="2057400" cy="848160"/>
            <a:chOff x="2085840" y="1219320"/>
            <a:chExt cx="2057400" cy="848160"/>
          </a:xfrm>
        </p:grpSpPr>
        <p:sp>
          <p:nvSpPr>
            <p:cNvPr id="207" name=""/>
            <p:cNvSpPr/>
            <p:nvPr/>
          </p:nvSpPr>
          <p:spPr>
            <a:xfrm>
              <a:off x="2085840" y="1238040"/>
              <a:ext cx="2057400" cy="82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ep” understand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of situ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use and eff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oral rel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ynamic fut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152800" y="1219320"/>
              <a:ext cx="1752480" cy="838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1895400" y="1457280"/>
            <a:ext cx="22860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2308800">
            <a:off x="3512880" y="2463480"/>
            <a:ext cx="1066680" cy="274680"/>
          </a:xfrm>
          <a:prstGeom prst="leftArrow">
            <a:avLst>
              <a:gd name="adj1" fmla="val 50000"/>
              <a:gd name="adj2" fmla="val 9708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9040" y="604188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  <a:headEnd len="sm" type="oval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9560" y="5452920"/>
            <a:ext cx="270432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the right data coll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5040" y="4802040"/>
            <a:ext cx="51516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it put together appropriately? (correlation, contex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429080" y="2411280"/>
            <a:ext cx="2257560" cy="2208240"/>
            <a:chOff x="4429080" y="2411280"/>
            <a:chExt cx="2257560" cy="2208240"/>
          </a:xfrm>
        </p:grpSpPr>
        <p:sp>
          <p:nvSpPr>
            <p:cNvPr id="215" name=""/>
            <p:cNvSpPr/>
            <p:nvPr/>
          </p:nvSpPr>
          <p:spPr>
            <a:xfrm>
              <a:off x="4429080" y="2411280"/>
              <a:ext cx="2257560" cy="1552680"/>
            </a:xfrm>
            <a:prstGeom prst="cloudCallout">
              <a:avLst>
                <a:gd name="adj1" fmla="val -34949"/>
                <a:gd name="adj2" fmla="val 74949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86400" y="3879720"/>
              <a:ext cx="663480" cy="739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3316680" y="2165400"/>
            <a:ext cx="3449160" cy="2463840"/>
            <a:chOff x="3316680" y="2165400"/>
            <a:chExt cx="3449160" cy="2463840"/>
          </a:xfrm>
        </p:grpSpPr>
        <p:sp>
          <p:nvSpPr>
            <p:cNvPr id="218" name=""/>
            <p:cNvSpPr/>
            <p:nvPr/>
          </p:nvSpPr>
          <p:spPr>
            <a:xfrm>
              <a:off x="4695840" y="3876840"/>
              <a:ext cx="604800" cy="752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Decision Supp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dels &amp; Too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19640" y="4052880"/>
              <a:ext cx="1365120" cy="473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21570600">
              <a:off x="3317760" y="4071600"/>
              <a:ext cx="960480" cy="274680"/>
            </a:xfrm>
            <a:prstGeom prst="leftArrow">
              <a:avLst>
                <a:gd name="adj1" fmla="val 50000"/>
                <a:gd name="adj2" fmla="val 87418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13560" y="4202280"/>
              <a:ext cx="105084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6753240" y="2392200"/>
              <a:ext cx="0" cy="17971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6453360" y="2165400"/>
              <a:ext cx="312480" cy="226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71000" y="4025880"/>
            <a:ext cx="42588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it put in a form that facilitates aware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4240" y="3178080"/>
            <a:ext cx="36309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d the individuals develop appropri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tuational Awareness (SA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43280" y="2754360"/>
            <a:ext cx="19332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the SA shar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963080" y="1440000"/>
            <a:ext cx="214380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shared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sit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rrectly understo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221000" y="1574640"/>
            <a:ext cx="162396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m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f the situ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22760" y="2744640"/>
            <a:ext cx="22352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o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ological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lie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cep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14400" y="1239840"/>
            <a:ext cx="1114560" cy="946440"/>
            <a:chOff x="914400" y="1239840"/>
            <a:chExt cx="1114560" cy="946440"/>
          </a:xfrm>
        </p:grpSpPr>
        <p:sp>
          <p:nvSpPr>
            <p:cNvPr id="231" name=""/>
            <p:cNvSpPr/>
            <p:nvPr/>
          </p:nvSpPr>
          <p:spPr>
            <a:xfrm>
              <a:off x="914400" y="1239840"/>
              <a:ext cx="11145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Pri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knowledg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en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odels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2840" y="1325160"/>
              <a:ext cx="914400" cy="81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71640" y="1712880"/>
            <a:ext cx="876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0856400">
            <a:off x="1137960" y="2223720"/>
            <a:ext cx="555480" cy="26820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53280" y="3506760"/>
            <a:ext cx="21726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re the appropri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s and tools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74080" y="2343240"/>
            <a:ext cx="218484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re emotions, belief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d cognitive fa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ken into accou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83920" y="4743360"/>
            <a:ext cx="215136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ere the decision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riving facto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har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54840" y="1522440"/>
            <a:ext cx="2138400" cy="82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command int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veloped collaborative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463520" y="3370320"/>
            <a:ext cx="1585800" cy="58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a qua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lan develop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3560" y="6049800"/>
            <a:ext cx="31539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as the plan executed effective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agnosing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s Exam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240" y="167292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torical Militar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loo (181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newall Jackson’s Valley Campaign (186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e at Chancellorsville (18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ttysburg (186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tland (191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ttle for France (19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le of Britain (194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47960" y="1672920"/>
            <a:ext cx="4267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rl Harbor (194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cily (194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zio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ndy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le of the Bulge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yte Gulf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te Cassino (194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etnam Tet Offensive (196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28720" y="10396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total of 30 situations were examin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tuations Examined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240" y="1359000"/>
            <a:ext cx="4343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mporary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ncennes shootdown of an Iranian airliner (198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-15 shootdown of US helicopters over Northern No Fly Zone (19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ott O’Grady shootdown over Bosnia (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urg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gadishu Ranger raid (199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zny (Chechnya) (199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zny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437000" y="1359000"/>
            <a:ext cx="4478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ing David Hotel bombing (194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nich Olympics (197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ebbe raid (197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irut Marine barracks bombing (198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hobar Towers bombing 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tack on Japanese embassy in Peru (1996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rican US embassy bombings (19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S Cole bombing (2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tember 11 terrorist attacks (200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tic Group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se 30 situations, 149 specific decisions and decision processes were identifi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ification of decisions and decision proce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3 historical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contemporary mili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 insurg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8 terror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49 specific decisions were also grouped according to the success or failure of the dec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succ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9 fail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earch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440" y="189396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formation System Input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the right data collect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it put together appropriately (correlation, context)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it put in a form that facilitated awarenes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tuational Awaren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d the individuals develop appropriate S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the SA appropriately shar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gnitive Factor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re emotions, beliefs, and cognitive factors taken into accoun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prior knowledge incorporated and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re mental models us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47960" y="189396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derstanding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shared awareness of the situation correctly understoo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Sens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made of the situation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ision Effectivenes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the chosen decision one that work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and Inten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command intent developed collaborative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5000"/>
              </a:lnSpc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a quality plan develop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1acb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re the decisions and driving factors share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5000"/>
              </a:lnSpc>
              <a:spcBef>
                <a:spcPts val="400"/>
              </a:spcBef>
              <a:buClr>
                <a:srgbClr val="01acb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s the plan executed effectively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923760"/>
            <a:ext cx="796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nsemak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lements were grouped into 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sion process group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11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element in each decision process was initially scored on a five-point sca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- Yes, thoroug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- Quite well, but not thorough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- Average, basics were cov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- Some, but not suffici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- No, not at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4952880"/>
            <a:ext cx="825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ever the Cognitive Inputs were not reliably reported even in excellent sourc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fore, the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mportanc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these factors was rated,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heir correctness in the c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6360" y="56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0" y="569124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15120" y="59436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239600" y="59436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867280"/>
            <a:ext cx="60958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6:18:24Z</dcterms:created>
  <dc:creator>John McDaniel</dc:creator>
  <dc:description/>
  <dc:language>en-US</dc:language>
  <cp:lastModifiedBy>Cara N. Christie</cp:lastModifiedBy>
  <cp:lastPrinted>2001-10-23T19:44:22Z</cp:lastPrinted>
  <dcterms:modified xsi:type="dcterms:W3CDTF">2001-10-23T21:16:52Z</dcterms:modified>
  <cp:revision>58</cp:revision>
  <dc:subject/>
  <dc:title>No Slide Title</dc:title>
</cp:coreProperties>
</file>