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6F05-7F99-4F42-BAA4-35CF11A9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E320-301A-4565-A381-7A7C3A6F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4931-71AE-4E18-A191-05A80B08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1063-5970-417D-B749-E7378C3C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6D49-C4AA-400F-8371-59101C5A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5AE2-9071-4901-AC8D-91A0AD29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E901-6EE4-4703-B468-C02B9775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699E-A1B8-4232-B87B-4696B142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C8A5-3775-47FA-AFAB-B8CCCE14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1B16-9668-43EE-8A43-8FBB950A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00D2-AD15-404D-830A-111C90D9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4262-5B70-4355-BEB6-7394690D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4151-71D1-4CF8-ADF9-3E5B753C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018C-BECC-4E17-BFBB-754EC98F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EC57-EE9C-45A4-ABFD-92B2720A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805F-4090-4767-8C7F-48232AA1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72CB-E0BE-4CBB-B79A-23BBE5AF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C72E-238B-4263-B1C7-70E4A3A4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A2A9-BC0A-44C9-AD00-BE5FDF9B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909C-81BE-42FE-B67C-0DEC7176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2BC3-6FFF-4A12-BF15-AAD010A6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1EA6-F7D5-48C7-9012-B519F710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938C-5ECF-42A8-B7C5-9C7BF614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ACEB-1BF0-424F-B3C6-82678184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2299-A7D5-4211-9B2E-B7AC7912249D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BF25-AB82-42CD-A7C9-A0708C900C6B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84872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Making Sense of Ambiguity: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Organizational Entrepreneurship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Mariann Jelinek, Ph.D.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ollege of William and Mary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Organizational Change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trategic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ystemic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tructura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ultura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onstituen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Experimentation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. . . None of Which Fits Traditional Organization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Organizational Learning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Investigating Knowledge and its Application Detail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hared learning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Virtual teams, Collaborative Work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ulture, Technology &amp; Learning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. . . Which Also Do Not Fi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Responding to Crisis and Ambiguity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Process Redesign on the Fly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“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Reengineering” to New Fact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Quality Improvement &amp; Redefinition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Performance Innovation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Dynamic Authority, Based on Relevant Expertise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Problem Solving Focus on Data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Organizational Entrepreneurship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hared Management: “We’re All Responsible for Results”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FedEx: Keeping Others Informed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Texas Instruments, 3M, Intel: Initiating New Ideas, Products &amp; Processe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Blowing the Whistle on Project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Mature Industry Bootstrapping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Mindful Alertness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Within a Context, Data Takes Meaning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Alertness to Pattern, Anomalies, Change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Pushing Data Up the Pipe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Lost Wrenche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Rival’s Paper Buy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My “Serendipity Hand” is Out!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Ambiguity Absorption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Who Deals with Ambiguity?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Who has Data? Information? Context?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Organizational Attention Resource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hared Interpretation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What Supports Adaptation?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echnology to Capture, Save, Access, Display &amp; Share Information -- Helping to Make Meaning and Track the Proces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Organizational Structures to Identify Where Information is Likely to Reside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ultural Norms that Value Evidence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Operating Policies Based on Data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Data-Based Organization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“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how me the Money!” -- What Real Results? What Real Causes?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“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Benign Neglect” -- Places to Experimen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“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What Have You Done for me Lately?” -- Constant Attention, Search for Better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haring Information to Drive Empowermen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“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Listening Down”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Anomaly Recognition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Routines Dismiss as Noise, What Entrepreneurial Organizations Embrace as Data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Driving Out “Mindlessness”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Shared Interpretation: The Chase!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“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What Does This Mean For Us?”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Hazards and Limits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“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High Performing Organizations” are Hard: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Burn Out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Easy to Forget About People’s Live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“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The Highest Divorce Rate in Silicon Valley”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“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The 82nd Airborne School of Management”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Dismissing “Bureaucracy” that Work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nding a Balance Between Stability and Change 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Problem Roots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raditional Organizations: 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683280" indent="-26280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Are Designed to Produce Stable, Predictable Performance by Eliminating Unauthorized Behavior -- and Ambiguity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683280" indent="-26280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Use Specialization to Narrow Members’ Focu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683280" indent="-26280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Emphasize Control and Managerial Intent, Ignoring Other Cognitive Resource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100 Years of Bureaucracy . . .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971800" y="457200"/>
            <a:ext cx="5257800" cy="10666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Auto Adaptive System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1905120"/>
            <a:ext cx="2971800" cy="10666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Technical Support System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3124080"/>
            <a:ext cx="2971800" cy="10670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Organizational Flexibility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4267080"/>
            <a:ext cx="2971800" cy="10670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Cultural Openness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5486400"/>
            <a:ext cx="4647960" cy="10666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ensemaking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3352680"/>
            <a:ext cx="457200" cy="990720"/>
          </a:xfrm>
          <a:custGeom>
            <a:avLst/>
            <a:gdLst>
              <a:gd name="textAreaLeft" fmla="*/ 61200 w 457200"/>
              <a:gd name="textAreaRight" fmla="*/ 396000 w 45720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1371600"/>
            <a:ext cx="761760" cy="4800600"/>
          </a:xfrm>
          <a:custGeom>
            <a:avLst/>
            <a:gdLst>
              <a:gd name="textAreaLeft" fmla="*/ 101880 w 761760"/>
              <a:gd name="textAreaRight" fmla="*/ 659880 w 761760"/>
              <a:gd name="textAreaTop" fmla="*/ 839880 h 4800600"/>
              <a:gd name="textAreaBottom" fmla="*/ 3480480 h 48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2362320"/>
            <a:ext cx="457200" cy="990360"/>
          </a:xfrm>
          <a:custGeom>
            <a:avLst/>
            <a:gdLst>
              <a:gd name="textAreaLeft" fmla="*/ 61200 w 457200"/>
              <a:gd name="textAreaRight" fmla="*/ 396000 w 457200"/>
              <a:gd name="textAreaTop" fmla="*/ 173160 h 990360"/>
              <a:gd name="textAreaBottom" fmla="*/ 7182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4648320"/>
            <a:ext cx="457200" cy="990360"/>
          </a:xfrm>
          <a:custGeom>
            <a:avLst/>
            <a:gdLst>
              <a:gd name="textAreaLeft" fmla="*/ 61200 w 457200"/>
              <a:gd name="textAreaRight" fmla="*/ 396000 w 457200"/>
              <a:gd name="textAreaTop" fmla="*/ 173160 h 990360"/>
              <a:gd name="textAreaBottom" fmla="*/ 7182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0800000">
            <a:off x="7238880" y="4724280"/>
            <a:ext cx="457200" cy="990720"/>
          </a:xfrm>
          <a:custGeom>
            <a:avLst/>
            <a:gdLst>
              <a:gd name="textAreaLeft" fmla="*/ 61200 w 457200"/>
              <a:gd name="textAreaRight" fmla="*/ 396000 w 45720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10800000">
            <a:off x="7086600" y="3657600"/>
            <a:ext cx="457200" cy="990720"/>
          </a:xfrm>
          <a:custGeom>
            <a:avLst/>
            <a:gdLst>
              <a:gd name="textAreaLeft" fmla="*/ 61200 w 457200"/>
              <a:gd name="textAreaRight" fmla="*/ 396000 w 45720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0800000">
            <a:off x="7162920" y="2514600"/>
            <a:ext cx="457200" cy="990720"/>
          </a:xfrm>
          <a:custGeom>
            <a:avLst/>
            <a:gdLst>
              <a:gd name="textAreaLeft" fmla="*/ 61200 w 457200"/>
              <a:gd name="textAreaRight" fmla="*/ 396000 w 45720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0800000">
            <a:off x="7086600" y="1295280"/>
            <a:ext cx="457200" cy="990720"/>
          </a:xfrm>
          <a:custGeom>
            <a:avLst/>
            <a:gdLst>
              <a:gd name="textAreaLeft" fmla="*/ 61200 w 457200"/>
              <a:gd name="textAreaRight" fmla="*/ 396000 w 45720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8152560" y="1142280"/>
            <a:ext cx="762120" cy="4800600"/>
          </a:xfrm>
          <a:custGeom>
            <a:avLst/>
            <a:gdLst>
              <a:gd name="textAreaLeft" fmla="*/ 101880 w 762120"/>
              <a:gd name="textAreaRight" fmla="*/ 660240 w 762120"/>
              <a:gd name="textAreaTop" fmla="*/ 839880 h 4800600"/>
              <a:gd name="textAreaBottom" fmla="*/ 3480480 h 48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29000" y="1295280"/>
            <a:ext cx="457200" cy="990720"/>
          </a:xfrm>
          <a:custGeom>
            <a:avLst/>
            <a:gdLst>
              <a:gd name="textAreaLeft" fmla="*/ 61200 w 457200"/>
              <a:gd name="textAreaRight" fmla="*/ 396000 w 45720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48320" y="1066680"/>
            <a:ext cx="0" cy="44960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648320" y="2209320"/>
            <a:ext cx="1828800" cy="12193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2819520" y="2209320"/>
            <a:ext cx="1828800" cy="12193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3280" y="1905120"/>
            <a:ext cx="172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Constrained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Improvisation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80280" y="1614600"/>
            <a:ext cx="272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Cognitive Management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71160" y="609480"/>
            <a:ext cx="28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Structuring Mechanisms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49840" y="5729400"/>
            <a:ext cx="308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Organizational Reliability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71600" y="1447920"/>
            <a:ext cx="6781680" cy="3504960"/>
          </a:xfrm>
          <a:prstGeom prst="ellipse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1066680"/>
            <a:ext cx="0" cy="44960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648320" y="2209320"/>
            <a:ext cx="1828800" cy="12193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819520" y="2209320"/>
            <a:ext cx="1828800" cy="12193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3280" y="1905120"/>
            <a:ext cx="172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Constrained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Improvisation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24560" y="1752480"/>
            <a:ext cx="272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Cognitive Management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96440" y="304920"/>
            <a:ext cx="28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Structuring Mechanisms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2000" y="5791320"/>
            <a:ext cx="308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Organizational Reliability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5560" y="2757600"/>
            <a:ext cx="213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Bounded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Entrepreneurship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58760" y="2604960"/>
            <a:ext cx="221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Mindful Alertness,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Ambiguity I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1480" y="762120"/>
            <a:ext cx="38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Technical Support Infrastructure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609480"/>
            <a:ext cx="609480" cy="1143000"/>
          </a:xfrm>
          <a:custGeom>
            <a:avLst/>
            <a:gdLst>
              <a:gd name="textAreaLeft" fmla="*/ 81360 w 609480"/>
              <a:gd name="textAreaRight" fmla="*/ 528120 w 60948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857280" y="456480"/>
            <a:ext cx="609480" cy="1143000"/>
          </a:xfrm>
          <a:custGeom>
            <a:avLst/>
            <a:gdLst>
              <a:gd name="textAreaLeft" fmla="*/ 81360 w 609480"/>
              <a:gd name="textAreaRight" fmla="*/ 528120 w 60948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6172200"/>
            <a:ext cx="47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Effective Crisis and Ambiguity Response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Further Research: 1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e Human Cognition Revolution 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echnical &amp; Information Suppor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Organizational Dynamic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Interpretation &amp; Influence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Entrepreneurship as a Resource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Further Research: 2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nsemaking as a Shared Endeavor, a Common Human Task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Extreme Events, Near Misse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Dynamic Reconfiguration Among and Between Levels (Individual, Group, Organization , System. . .)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raditional Consequences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“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ought” and “Attention” Limited to Manager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onsistency Sought; Rigidity Found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redibility Gap: Ignored Realitie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Alienation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Reduced Capability in Uncertain Time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952880" y="3124080"/>
            <a:ext cx="3200400" cy="2133720"/>
          </a:xfrm>
          <a:prstGeom prst="rect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990720"/>
            <a:ext cx="3200400" cy="2133360"/>
          </a:xfrm>
          <a:prstGeom prst="rect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6920" y="106668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Strategy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47242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Managerial Systems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990720"/>
            <a:ext cx="3200400" cy="2133360"/>
          </a:xfrm>
          <a:prstGeom prst="rect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1480" y="1066680"/>
            <a:ext cx="286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Organizational Culture,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Norms &amp; Values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3124080"/>
            <a:ext cx="3200400" cy="2133720"/>
          </a:xfrm>
          <a:prstGeom prst="rect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49240" y="4724280"/>
            <a:ext cx="21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Operating System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72000" y="5680080"/>
            <a:ext cx="50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Structural Elements of Organization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An Alternative Approach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Organize Instead for Innovation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Performance Improvemen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Organizational Change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Organizational Learning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Emphasize Shared Cognition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Embrace Ambiguity as Opportunity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952880" y="3124080"/>
            <a:ext cx="3200400" cy="2133720"/>
          </a:xfrm>
          <a:prstGeom prst="rect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990720"/>
            <a:ext cx="3200400" cy="2133360"/>
          </a:xfrm>
          <a:prstGeom prst="rect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7640" y="106668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trategy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86400" y="48769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Managerial Systems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990720"/>
            <a:ext cx="3200400" cy="2133360"/>
          </a:xfrm>
          <a:prstGeom prst="rect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2560" y="1066680"/>
            <a:ext cx="264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Organizational Culture,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Norms &amp; Values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3124080"/>
            <a:ext cx="3200400" cy="2133720"/>
          </a:xfrm>
          <a:prstGeom prst="rect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49600" y="4876920"/>
            <a:ext cx="20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Operating System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8760" y="5680080"/>
            <a:ext cx="47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Structural Elements of Organization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05880" y="270000"/>
            <a:ext cx="49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Cognitive Elements of Organization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057400"/>
            <a:ext cx="2743200" cy="2819520"/>
          </a:xfrm>
          <a:prstGeom prst="ellipse">
            <a:avLst/>
          </a:prstGeom>
          <a:solidFill>
            <a:srgbClr val="99ff99">
              <a:alpha val="50000"/>
            </a:srgbClr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2057400"/>
            <a:ext cx="2743200" cy="2819520"/>
          </a:xfrm>
          <a:prstGeom prst="ellipse">
            <a:avLst/>
          </a:prstGeom>
          <a:solidFill>
            <a:srgbClr val="99ff99">
              <a:alpha val="50000"/>
            </a:srgbClr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1371600"/>
            <a:ext cx="2743200" cy="2819520"/>
          </a:xfrm>
          <a:prstGeom prst="ellipse">
            <a:avLst/>
          </a:prstGeom>
          <a:solidFill>
            <a:srgbClr val="99ff99">
              <a:alpha val="50000"/>
            </a:srgbClr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1040" y="4038480"/>
            <a:ext cx="21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Mindful Alertness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5280" y="1523880"/>
            <a:ext cx="161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Shared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Management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42520" y="3809880"/>
            <a:ext cx="141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Ambiguity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Absorption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Multidisciplinary Perspective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Organization Theory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ognition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Information Theory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ocial Psychology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. . . Against Constant Process &amp; Performance Assessment: Reality Testing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Need for a Cognitive Perspective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Real Organizations are People . . . 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05600" indent="-27144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. . . With all their Cognitive Pluses and Minuse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What is Central, is What’s Traditionally Dismissed (e.g., Subjectivity, Creativity, Emotion, Responses Beyond Rationality)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oordinating Shared Understanding Puts Cognition at the Center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Innovation vs.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raditional Organizations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Novel Methods and technologie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Novel Product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Novel Processe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683280" indent="-262800">
              <a:spcBef>
                <a:spcPts val="7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Multidisciplinary, multifunctional perspective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. . . Yet Doesn’t Fit with Traditional Stability Norms &amp; Procedure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21:19:56Z</dcterms:created>
  <dc:creator>Sam Jelinek</dc:creator>
  <dc:description/>
  <dc:language>en-US</dc:language>
  <cp:lastModifiedBy>Sam Jelinek</cp:lastModifiedBy>
  <dcterms:modified xsi:type="dcterms:W3CDTF">2001-10-24T11:49:43Z</dcterms:modified>
  <cp:revision>22</cp:revision>
  <dc:subject/>
  <dc:title>Making Sense of Ambiguity: Organizational Entrepreneurship</dc:title>
</cp:coreProperties>
</file>